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jpeg" ContentType="image/jpeg"/>
  <Override PartName="/ppt/media/start.wav" ContentType="audio/x-wav"/>
  <Override PartName="/ppt/media/image5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89838-02B9-438A-A12B-DD652F6DCA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8C8B1-2A31-406B-B11C-ABE139F6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667B7-75AF-4FA6-9FAE-1B28CCCC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F3ACE-B153-4EF7-B381-FD606A48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0D835-E4E3-4522-A47B-DC8A20C8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F5590-EAE4-40F3-B565-C43C9889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379AE-0D95-44C3-A0E0-4413E068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7DD3D-9D6F-4134-87CE-0680BEC3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F76DF-A2BE-4FF0-A3C3-126D41EA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FD221-8797-4E4B-89F0-3A75CF41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65864-38DA-46C0-8D75-FBFB700AD0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C75AB0-2682-4CE5-8A90-D98290E602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74C7D-6990-49A0-8E23-3518A72D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49DA04-46CE-4B7D-9774-85F1C95E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2E91EC-7A62-4FE6-B620-BD351D2D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F3B752-33DC-4A65-B581-BF5CA961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E6A38D-038A-43DB-8134-BFD7361A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AC7D53-7038-402E-888B-2D2CF9D8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EB2693-202C-43A0-801A-00C120CB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262D82-A1A9-4452-A711-3D2A41B1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ED40A9-E31F-48BD-BAC3-BB457A1D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C8C893-F535-4C0C-91E9-076E8E4F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B3FE82-C404-418B-AC60-31B04ACC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82884-22A7-4842-97AC-21E2091674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A5671B-EFB1-42DA-A071-B82AB4BF4D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2448AC-1A75-4BA6-A865-717A34FBEC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9561B7-B930-47FC-9B5A-0E520842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D62C9E-23D1-4426-A4A4-156E82F3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0865A0-3B24-4ABA-87CE-2991564B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0A4C43-6753-47E2-8244-0638A636C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F4D8C0-27B7-4565-BEE1-18F54583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87D70A-32D3-4543-8359-3E3641CF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8EB9BD-BF30-4B8F-AFFD-4BC931C7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F562A5-715E-4383-BAB2-4410AFD7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A26DA-70A9-47BC-BF40-EAF5C9FDE7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C4FEE7-3056-452C-B3C9-A53F18C1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F6C192-3CC5-4B36-822B-E89FDF0B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E5E53D-4C5B-4906-9898-B2CFC3599B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70000-354A-4D78-A065-94182D5EA8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97FE2-5AB0-4111-BA39-FF9D0C8F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01220-12F8-4763-A5EA-2CE170E7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7CF5B-8A41-4811-B64F-6E222396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353A6-1215-4F63-869F-4ECF095F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4FADA-6A85-4D92-8783-60EE25D0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AD438-F40E-4750-A8EA-AB498302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40BC7-40A9-4D1B-BF6C-17568907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C2F88-BF75-46E0-A9F9-FD28FF64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7CCC8-FF4B-409A-BD42-4F45956B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970AE-D5D1-4705-A6A2-D0007580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1A315-D5B7-4FC3-BDD4-D0EBBEA9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64844-7540-4745-846A-75410B4BD0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24A5A-8F30-4862-A8A1-7532B45D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8BA3F-50EB-4667-8F80-9CA6EE66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C194D-2392-40EF-A151-43D1C27C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F5DDA-EF75-4E62-8B6A-B0D98E91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662A4-9522-46A8-9197-ED36FF58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C1049-F5EF-4F3D-BF9F-94168393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6D276-BE05-41C5-9A6C-83D40E82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2B6D3-3FB0-4577-8BBE-C87BCEE8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CEC4E-11AA-49CC-BEBF-2C08EA20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4473C-3A20-460E-8FAB-9D484677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B8C0E-A3EC-4BD0-BB57-0B78BFDF07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69AB-B1AD-425A-9FE9-533D26F048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A9F3-F179-440E-94F1-1181C8C8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7F19-AF6F-4D50-A5CF-5419BABD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8DF4-25F0-41A4-88F0-27E08523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F540-E8F1-43CD-9A69-51A2FB7B9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74776-45CC-4D1E-9996-AE641DED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77C0-0DEC-4E2A-8DF9-0FE93DA0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8083-8844-4DEE-81B4-1131E084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E558-FF32-466F-91AC-3D827BF5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2A3F-C426-4A17-92E5-0BCBC169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E94A-8E3A-49EA-8B10-9B78094D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6CB0-7ADE-4C3A-99DC-BB3B2413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66C3-615F-45D4-B547-04EDAA4A83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293B4-2536-40B1-A8C7-E268F5E778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DB0BD-C318-4E7D-BEF7-7BF563EC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2C9468-8B70-4582-BAD0-A25D893E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ED149-3A2B-4B69-9A38-C60BA454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F2B54-D59E-4172-9658-2A41409A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8DC1D7-65AE-493A-853E-20873154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C07C5D-3C23-4768-A05F-5912A3B5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2C43FC-497F-4869-BA89-74EBDE34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27F68C-0211-47BC-8406-1747F0A8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25C70E-3A1D-45FB-B661-910043A0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623DA6-6A36-487C-BD91-A720EAE0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FA8CAA-A322-4A4F-9AFA-DD863CC7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4BCAD8-C2FD-421F-820B-282064A668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153C14-8AEA-47B5-86CD-AC701CD4A0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C1BBC-7D25-4BA6-A046-88C4272C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DAEA96-ED64-426F-902D-74FBFB0E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56C684-C0D0-40A5-84E1-F72E5417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E4BC0E-E775-4390-8D4B-CF927D73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CE984D-4C3E-4A2A-9E00-97D70CF8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6095C2-5201-4C27-B962-4B19E2CD5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AAF434-5BCF-4145-A895-9FAE7366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3AA355-10B3-4F91-8657-5A6EA113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720B13-3C09-4A9B-B211-E8F8EE16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3C2127-95E1-4CDA-BEC0-3055826E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81EC0B-D0D7-47B4-84A0-02220B6C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666C3-F949-4820-B49E-01D5D22E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AB12CA-0032-46DA-AC50-DFE96FC4FC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C124E-8BF0-4465-9862-0E030BC30C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7BF2C-A8C5-4C92-A007-966EF307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0BE91-19A3-4057-BA0E-D85F2ABE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C75CA-A6DB-49F3-97AE-D53FB5B7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5FAC3-588A-4DBF-B5AD-52D4E925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70400-C543-423A-8A57-812AD1DB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86DA1-5C83-4EF0-B25C-1494E1C8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3CC0A-6E6E-4FC3-8BBE-FED2D052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C4F9E-72D0-4FEA-8953-B751BDD8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3CADE-5004-4FC7-8C8E-E14DC6B6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D0603-6BE8-4D77-AB68-B0711782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97ECA-AD64-4235-9798-7A1E24FB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C30A3-13E8-43D6-BAC3-C80317D7E0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BCFFB8-9DC7-4AFB-9742-924CC07298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7AEAEA-6202-4D8A-B6C9-364BE842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21F624-279D-442A-92B2-37730C95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0F41B8-AE34-4DFB-A709-CBB2C3FE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22072C-A8F7-40DC-8986-4CA985BD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93E6ED-ED9B-4A7B-85B7-9DEF54C4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F3AAAF-4854-4D37-82A7-7EA1C04C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35075-C1ED-4D0A-A0BA-AFD6382A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0EF969-3863-4F0E-9D1D-E95716B4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B737DC-C150-4FD2-A37C-8D1018C0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D24899-AE1A-4244-B143-1D95ED4A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E5DF09-0AF1-4F1D-986E-AD2BAF2E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2C1F8A-CBF9-4082-AD1A-EBE8294F11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3872B2-DF9A-4601-BB8E-AEDD88669F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2ED1F9-2B0A-4AE8-AEF6-633F4C0E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79C1DA-0D72-4AA3-AE52-D0BB7CD9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936F3C-5D37-463E-AD94-364BD447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873B6F-D6A5-408F-ADB4-A7AF53F0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9B471-80DE-40FB-A38E-5F6B7C31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405944-C5A1-4A02-8109-FFAC8DC0D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4C2F2B-8ACE-4023-BA0D-E19069A4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D5736F-CEF2-43B0-BFA9-95A652A0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EC40FC-5406-48D7-AEF3-DD7D9F55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3CB5A9-4F4D-4083-B7AF-53B899AD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FEA3B4-9956-4119-BF10-E48D1B10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39705B-8C5F-42E2-B9E2-6754B1D178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0AC24-061C-4FAD-A20D-B9B5CE6DC8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A8257-57ED-4C65-98BF-6A231AD8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25E9A-A862-445A-9706-577CB10E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1745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1746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1747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1748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1749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1750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1751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6A22-AE1B-4018-AE4E-6DA1888B186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54C9-636B-4B27-BF04-71D763547B5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86CD-D54F-49CD-9B63-F06A7F83E17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9071-2B04-4110-AA2B-CE8BB8016F2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32769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8" name="椭圆 32770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9" name="椭圆 32771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32772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2773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2774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2775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CD3B-8957-4E19-BD2F-109BBC8C5BB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7CC0-D7A0-422A-9E44-7D78FFECE32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9E3F-8371-4FFB-A306-BF5B339320D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0877-E5EB-4BB6-97D7-EAA40622E3B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8BFB-90D1-46F4-8643-3B976D313F6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D0DB-3C9E-4A31-9D90-E165400C97E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B45A-69CD-4290-84B2-D55AF2FC62C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AD4B-FB06-4E95-BB96-51CB36B6D6A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矩形 27649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5" name="矩形 27650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1692360" y="47628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乘法</a:t>
            </a:r>
            <a:endParaRPr b="0" i="1" lang="en-US" sz="5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7" name="TextBox 3"/>
          <p:cNvSpPr/>
          <p:nvPr/>
        </p:nvSpPr>
        <p:spPr>
          <a:xfrm>
            <a:off x="666720" y="1628640"/>
            <a:ext cx="60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6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混合运算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8" name="TextBox 3"/>
          <p:cNvSpPr/>
          <p:nvPr/>
        </p:nvSpPr>
        <p:spPr>
          <a:xfrm>
            <a:off x="671400" y="252576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7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利用乘法运算定律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计算分数混合运算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7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050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1051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1053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1054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一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"/>
          <p:cNvSpPr/>
          <p:nvPr/>
        </p:nvSpPr>
        <p:spPr>
          <a:xfrm>
            <a:off x="393840" y="4365720"/>
            <a:ext cx="72673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知道了什么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一）出示信息，明确问题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1187280" y="4979880"/>
            <a:ext cx="81853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要求做这个画框需要多长的木条也就是求什么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求这个长方形的周长。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947880" y="2205000"/>
            <a:ext cx="278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教学例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6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出示信息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4" name="Text Box 8"/>
          <p:cNvSpPr/>
          <p:nvPr/>
        </p:nvSpPr>
        <p:spPr>
          <a:xfrm>
            <a:off x="912960" y="2852640"/>
            <a:ext cx="473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个画框的尺寸如右图，做这个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画框需要多长的木条？   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5" name="Rectangle 2"/>
          <p:cNvSpPr/>
          <p:nvPr/>
        </p:nvSpPr>
        <p:spPr>
          <a:xfrm>
            <a:off x="1197000" y="5587920"/>
            <a:ext cx="81849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可以怎样列式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06" name="图片 19464" descr="13"/>
          <p:cNvPicPr/>
          <p:nvPr/>
        </p:nvPicPr>
        <p:blipFill>
          <a:blip r:embed="rId1"/>
          <a:stretch/>
        </p:blipFill>
        <p:spPr>
          <a:xfrm>
            <a:off x="5867280" y="1916280"/>
            <a:ext cx="2706840" cy="1620720"/>
          </a:xfrm>
          <a:prstGeom prst="rect">
            <a:avLst/>
          </a:prstGeom>
          <a:ln w="0">
            <a:noFill/>
          </a:ln>
        </p:spPr>
      </p:pic>
      <p:grpSp>
        <p:nvGrpSpPr>
          <p:cNvPr id="507" name="组合 19465"/>
          <p:cNvGrpSpPr/>
          <p:nvPr/>
        </p:nvGrpSpPr>
        <p:grpSpPr>
          <a:xfrm>
            <a:off x="5089680" y="2344680"/>
            <a:ext cx="755640" cy="815400"/>
            <a:chOff x="5089680" y="2344680"/>
            <a:chExt cx="755640" cy="815400"/>
          </a:xfrm>
        </p:grpSpPr>
        <p:grpSp>
          <p:nvGrpSpPr>
            <p:cNvPr id="508" name="组合 19466"/>
            <p:cNvGrpSpPr/>
            <p:nvPr/>
          </p:nvGrpSpPr>
          <p:grpSpPr>
            <a:xfrm>
              <a:off x="5089680" y="2344680"/>
              <a:ext cx="521640" cy="815400"/>
              <a:chOff x="5089680" y="2344680"/>
              <a:chExt cx="521640" cy="815400"/>
            </a:xfrm>
          </p:grpSpPr>
          <p:sp>
            <p:nvSpPr>
              <p:cNvPr id="509" name="文本框 19467"/>
              <p:cNvSpPr/>
              <p:nvPr/>
            </p:nvSpPr>
            <p:spPr>
              <a:xfrm>
                <a:off x="5106960" y="270036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10" name="文本框 19468"/>
              <p:cNvSpPr/>
              <p:nvPr/>
            </p:nvSpPr>
            <p:spPr>
              <a:xfrm>
                <a:off x="5111640" y="234468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11" name="直接连接符 19469"/>
              <p:cNvSpPr/>
              <p:nvPr/>
            </p:nvSpPr>
            <p:spPr>
              <a:xfrm>
                <a:off x="5089680" y="27637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512" name="文本框 19470"/>
            <p:cNvSpPr/>
            <p:nvPr/>
          </p:nvSpPr>
          <p:spPr>
            <a:xfrm>
              <a:off x="5413320" y="25430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m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13" name="组合 19471"/>
          <p:cNvGrpSpPr/>
          <p:nvPr/>
        </p:nvGrpSpPr>
        <p:grpSpPr>
          <a:xfrm>
            <a:off x="6877080" y="3408480"/>
            <a:ext cx="755640" cy="815040"/>
            <a:chOff x="6877080" y="3408480"/>
            <a:chExt cx="755640" cy="815040"/>
          </a:xfrm>
        </p:grpSpPr>
        <p:grpSp>
          <p:nvGrpSpPr>
            <p:cNvPr id="514" name="组合 19472"/>
            <p:cNvGrpSpPr/>
            <p:nvPr/>
          </p:nvGrpSpPr>
          <p:grpSpPr>
            <a:xfrm>
              <a:off x="6877080" y="3408480"/>
              <a:ext cx="521640" cy="815040"/>
              <a:chOff x="6877080" y="3408480"/>
              <a:chExt cx="521640" cy="815040"/>
            </a:xfrm>
          </p:grpSpPr>
          <p:sp>
            <p:nvSpPr>
              <p:cNvPr id="515" name="文本框 19473"/>
              <p:cNvSpPr/>
              <p:nvPr/>
            </p:nvSpPr>
            <p:spPr>
              <a:xfrm>
                <a:off x="6894360" y="376380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16" name="文本框 19474"/>
              <p:cNvSpPr/>
              <p:nvPr/>
            </p:nvSpPr>
            <p:spPr>
              <a:xfrm>
                <a:off x="6899040" y="340848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17" name="直接连接符 19475"/>
              <p:cNvSpPr/>
              <p:nvPr/>
            </p:nvSpPr>
            <p:spPr>
              <a:xfrm>
                <a:off x="6877080" y="382716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518" name="文本框 19476"/>
            <p:cNvSpPr/>
            <p:nvPr/>
          </p:nvSpPr>
          <p:spPr>
            <a:xfrm>
              <a:off x="7200720" y="36064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m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19" name="矩形 19478"/>
          <p:cNvSpPr/>
          <p:nvPr/>
        </p:nvSpPr>
        <p:spPr>
          <a:xfrm>
            <a:off x="7038720" y="350028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解决问题，提炼方法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2" name="Text Box 18"/>
          <p:cNvSpPr/>
          <p:nvPr/>
        </p:nvSpPr>
        <p:spPr>
          <a:xfrm>
            <a:off x="324000" y="4149720"/>
            <a:ext cx="92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混合运算的顺序和整数的相同，请你计算出上面两道题的结果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1108080" y="4508640"/>
            <a:ext cx="6624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通过计算你有什么发现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333360" y="5950080"/>
            <a:ext cx="8785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小结：两种方法的计算结果相同；分数混合运算的顺序与整数混合运算的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顺序相同。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25" name="图片 20486" descr="13"/>
          <p:cNvPicPr/>
          <p:nvPr/>
        </p:nvPicPr>
        <p:blipFill>
          <a:blip r:embed="rId1"/>
          <a:stretch/>
        </p:blipFill>
        <p:spPr>
          <a:xfrm>
            <a:off x="6113520" y="1916280"/>
            <a:ext cx="2706480" cy="1620720"/>
          </a:xfrm>
          <a:prstGeom prst="rect">
            <a:avLst/>
          </a:prstGeom>
          <a:ln w="0">
            <a:noFill/>
          </a:ln>
        </p:spPr>
      </p:pic>
      <p:grpSp>
        <p:nvGrpSpPr>
          <p:cNvPr id="526" name="组合 20487"/>
          <p:cNvGrpSpPr/>
          <p:nvPr/>
        </p:nvGrpSpPr>
        <p:grpSpPr>
          <a:xfrm>
            <a:off x="5305320" y="2344680"/>
            <a:ext cx="755640" cy="815400"/>
            <a:chOff x="5305320" y="2344680"/>
            <a:chExt cx="755640" cy="815400"/>
          </a:xfrm>
        </p:grpSpPr>
        <p:grpSp>
          <p:nvGrpSpPr>
            <p:cNvPr id="527" name="组合 20488"/>
            <p:cNvGrpSpPr/>
            <p:nvPr/>
          </p:nvGrpSpPr>
          <p:grpSpPr>
            <a:xfrm>
              <a:off x="5305320" y="2344680"/>
              <a:ext cx="521640" cy="815400"/>
              <a:chOff x="5305320" y="2344680"/>
              <a:chExt cx="521640" cy="815400"/>
            </a:xfrm>
          </p:grpSpPr>
          <p:sp>
            <p:nvSpPr>
              <p:cNvPr id="528" name="文本框 20489"/>
              <p:cNvSpPr/>
              <p:nvPr/>
            </p:nvSpPr>
            <p:spPr>
              <a:xfrm>
                <a:off x="5322600" y="270036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29" name="文本框 20490"/>
              <p:cNvSpPr/>
              <p:nvPr/>
            </p:nvSpPr>
            <p:spPr>
              <a:xfrm>
                <a:off x="5327280" y="234468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30" name="直接连接符 20491"/>
              <p:cNvSpPr/>
              <p:nvPr/>
            </p:nvSpPr>
            <p:spPr>
              <a:xfrm>
                <a:off x="5305320" y="27637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531" name="文本框 20492"/>
            <p:cNvSpPr/>
            <p:nvPr/>
          </p:nvSpPr>
          <p:spPr>
            <a:xfrm>
              <a:off x="5628960" y="25430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m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32" name="组合 20493"/>
          <p:cNvGrpSpPr/>
          <p:nvPr/>
        </p:nvGrpSpPr>
        <p:grpSpPr>
          <a:xfrm>
            <a:off x="7093080" y="3408480"/>
            <a:ext cx="755640" cy="815040"/>
            <a:chOff x="7093080" y="3408480"/>
            <a:chExt cx="755640" cy="815040"/>
          </a:xfrm>
        </p:grpSpPr>
        <p:grpSp>
          <p:nvGrpSpPr>
            <p:cNvPr id="533" name="组合 20494"/>
            <p:cNvGrpSpPr/>
            <p:nvPr/>
          </p:nvGrpSpPr>
          <p:grpSpPr>
            <a:xfrm>
              <a:off x="7093080" y="3408480"/>
              <a:ext cx="521640" cy="815040"/>
              <a:chOff x="7093080" y="3408480"/>
              <a:chExt cx="521640" cy="815040"/>
            </a:xfrm>
          </p:grpSpPr>
          <p:sp>
            <p:nvSpPr>
              <p:cNvPr id="534" name="文本框 20495"/>
              <p:cNvSpPr/>
              <p:nvPr/>
            </p:nvSpPr>
            <p:spPr>
              <a:xfrm>
                <a:off x="7110360" y="376380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35" name="文本框 20496"/>
              <p:cNvSpPr/>
              <p:nvPr/>
            </p:nvSpPr>
            <p:spPr>
              <a:xfrm>
                <a:off x="7115040" y="340848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36" name="直接连接符 20497"/>
              <p:cNvSpPr/>
              <p:nvPr/>
            </p:nvSpPr>
            <p:spPr>
              <a:xfrm>
                <a:off x="7093080" y="382716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537" name="文本框 20498"/>
            <p:cNvSpPr/>
            <p:nvPr/>
          </p:nvSpPr>
          <p:spPr>
            <a:xfrm>
              <a:off x="7416720" y="36064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m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38" name="组合 20499"/>
          <p:cNvGrpSpPr/>
          <p:nvPr/>
        </p:nvGrpSpPr>
        <p:grpSpPr>
          <a:xfrm>
            <a:off x="1476360" y="2252520"/>
            <a:ext cx="3187800" cy="824760"/>
            <a:chOff x="1476360" y="2252520"/>
            <a:chExt cx="3187800" cy="824760"/>
          </a:xfrm>
        </p:grpSpPr>
        <p:sp>
          <p:nvSpPr>
            <p:cNvPr id="539" name="Text Box 6"/>
            <p:cNvSpPr/>
            <p:nvPr/>
          </p:nvSpPr>
          <p:spPr>
            <a:xfrm>
              <a:off x="1476360" y="2455920"/>
              <a:ext cx="11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540" name="组合 20501"/>
            <p:cNvGrpSpPr/>
            <p:nvPr/>
          </p:nvGrpSpPr>
          <p:grpSpPr>
            <a:xfrm>
              <a:off x="2432160" y="2252520"/>
              <a:ext cx="2232000" cy="824760"/>
              <a:chOff x="2432160" y="2252520"/>
              <a:chExt cx="2232000" cy="824760"/>
            </a:xfrm>
          </p:grpSpPr>
          <p:grpSp>
            <p:nvGrpSpPr>
              <p:cNvPr id="541" name="组合 20502"/>
              <p:cNvGrpSpPr/>
              <p:nvPr/>
            </p:nvGrpSpPr>
            <p:grpSpPr>
              <a:xfrm>
                <a:off x="2782800" y="2252520"/>
                <a:ext cx="521640" cy="815040"/>
                <a:chOff x="2782800" y="2252520"/>
                <a:chExt cx="521640" cy="815040"/>
              </a:xfrm>
            </p:grpSpPr>
            <p:sp>
              <p:nvSpPr>
                <p:cNvPr id="542" name="文本框 20503"/>
                <p:cNvSpPr/>
                <p:nvPr/>
              </p:nvSpPr>
              <p:spPr>
                <a:xfrm>
                  <a:off x="2800080" y="2607840"/>
                  <a:ext cx="504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43" name="文本框 20504"/>
                <p:cNvSpPr/>
                <p:nvPr/>
              </p:nvSpPr>
              <p:spPr>
                <a:xfrm>
                  <a:off x="2804760" y="225252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44" name="直接连接符 20505"/>
                <p:cNvSpPr/>
                <p:nvPr/>
              </p:nvSpPr>
              <p:spPr>
                <a:xfrm>
                  <a:off x="2782800" y="267120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545" name="文本框 20506"/>
              <p:cNvSpPr/>
              <p:nvPr/>
            </p:nvSpPr>
            <p:spPr>
              <a:xfrm>
                <a:off x="2432160" y="2473200"/>
                <a:ext cx="223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（   ＋   ）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46" name="组合 20507"/>
              <p:cNvGrpSpPr/>
              <p:nvPr/>
            </p:nvGrpSpPr>
            <p:grpSpPr>
              <a:xfrm>
                <a:off x="3459240" y="2261880"/>
                <a:ext cx="521280" cy="815400"/>
                <a:chOff x="3459240" y="2261880"/>
                <a:chExt cx="521280" cy="815400"/>
              </a:xfrm>
            </p:grpSpPr>
            <p:sp>
              <p:nvSpPr>
                <p:cNvPr id="547" name="文本框 20508"/>
                <p:cNvSpPr/>
                <p:nvPr/>
              </p:nvSpPr>
              <p:spPr>
                <a:xfrm>
                  <a:off x="3476520" y="2617560"/>
                  <a:ext cx="504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48" name="文本框 20509"/>
                <p:cNvSpPr/>
                <p:nvPr/>
              </p:nvSpPr>
              <p:spPr>
                <a:xfrm>
                  <a:off x="3481200" y="2261880"/>
                  <a:ext cx="359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49" name="直接连接符 20510"/>
                <p:cNvSpPr/>
                <p:nvPr/>
              </p:nvSpPr>
              <p:spPr>
                <a:xfrm>
                  <a:off x="3459240" y="2680920"/>
                  <a:ext cx="359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550" name="组合 20511"/>
          <p:cNvGrpSpPr/>
          <p:nvPr/>
        </p:nvGrpSpPr>
        <p:grpSpPr>
          <a:xfrm>
            <a:off x="1498680" y="3068640"/>
            <a:ext cx="3649320" cy="824400"/>
            <a:chOff x="1498680" y="3068640"/>
            <a:chExt cx="3649320" cy="824400"/>
          </a:xfrm>
        </p:grpSpPr>
        <p:sp>
          <p:nvSpPr>
            <p:cNvPr id="551" name="Text Box 13"/>
            <p:cNvSpPr/>
            <p:nvPr/>
          </p:nvSpPr>
          <p:spPr>
            <a:xfrm>
              <a:off x="1498680" y="3309840"/>
              <a:ext cx="112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552" name="组合 20513"/>
            <p:cNvGrpSpPr/>
            <p:nvPr/>
          </p:nvGrpSpPr>
          <p:grpSpPr>
            <a:xfrm>
              <a:off x="2268360" y="3068640"/>
              <a:ext cx="2879640" cy="824400"/>
              <a:chOff x="2268360" y="3068640"/>
              <a:chExt cx="2879640" cy="824400"/>
            </a:xfrm>
          </p:grpSpPr>
          <p:grpSp>
            <p:nvGrpSpPr>
              <p:cNvPr id="553" name="组合 20514"/>
              <p:cNvGrpSpPr/>
              <p:nvPr/>
            </p:nvGrpSpPr>
            <p:grpSpPr>
              <a:xfrm>
                <a:off x="2619000" y="3068640"/>
                <a:ext cx="522360" cy="815040"/>
                <a:chOff x="2619000" y="3068640"/>
                <a:chExt cx="522360" cy="815040"/>
              </a:xfrm>
            </p:grpSpPr>
            <p:sp>
              <p:nvSpPr>
                <p:cNvPr id="554" name="文本框 20515"/>
                <p:cNvSpPr/>
                <p:nvPr/>
              </p:nvSpPr>
              <p:spPr>
                <a:xfrm>
                  <a:off x="2636640" y="34239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55" name="文本框 20516"/>
                <p:cNvSpPr/>
                <p:nvPr/>
              </p:nvSpPr>
              <p:spPr>
                <a:xfrm>
                  <a:off x="2641320" y="30686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56" name="直接连接符 20517"/>
                <p:cNvSpPr/>
                <p:nvPr/>
              </p:nvSpPr>
              <p:spPr>
                <a:xfrm>
                  <a:off x="2619000" y="34873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557" name="文本框 20518"/>
              <p:cNvSpPr/>
              <p:nvPr/>
            </p:nvSpPr>
            <p:spPr>
              <a:xfrm>
                <a:off x="2268360" y="3288960"/>
                <a:ext cx="287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  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＋   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×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58" name="组合 20519"/>
              <p:cNvGrpSpPr/>
              <p:nvPr/>
            </p:nvGrpSpPr>
            <p:grpSpPr>
              <a:xfrm>
                <a:off x="3776400" y="3078000"/>
                <a:ext cx="522360" cy="815040"/>
                <a:chOff x="3776400" y="3078000"/>
                <a:chExt cx="522360" cy="815040"/>
              </a:xfrm>
            </p:grpSpPr>
            <p:sp>
              <p:nvSpPr>
                <p:cNvPr id="559" name="文本框 20520"/>
                <p:cNvSpPr/>
                <p:nvPr/>
              </p:nvSpPr>
              <p:spPr>
                <a:xfrm>
                  <a:off x="3794040" y="34333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60" name="文本框 20521"/>
                <p:cNvSpPr/>
                <p:nvPr/>
              </p:nvSpPr>
              <p:spPr>
                <a:xfrm>
                  <a:off x="3798720" y="30780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61" name="直接连接符 20522"/>
                <p:cNvSpPr/>
                <p:nvPr/>
              </p:nvSpPr>
              <p:spPr>
                <a:xfrm>
                  <a:off x="3776400" y="349668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562" name="组合 20523"/>
          <p:cNvGrpSpPr/>
          <p:nvPr/>
        </p:nvGrpSpPr>
        <p:grpSpPr>
          <a:xfrm>
            <a:off x="1258920" y="5013360"/>
            <a:ext cx="5035320" cy="838800"/>
            <a:chOff x="1258920" y="5013360"/>
            <a:chExt cx="5035320" cy="838800"/>
          </a:xfrm>
        </p:grpSpPr>
        <p:grpSp>
          <p:nvGrpSpPr>
            <p:cNvPr id="563" name="组合 20524"/>
            <p:cNvGrpSpPr/>
            <p:nvPr/>
          </p:nvGrpSpPr>
          <p:grpSpPr>
            <a:xfrm>
              <a:off x="1258920" y="5013360"/>
              <a:ext cx="2232000" cy="824760"/>
              <a:chOff x="1258920" y="5013360"/>
              <a:chExt cx="2232000" cy="824760"/>
            </a:xfrm>
          </p:grpSpPr>
          <p:grpSp>
            <p:nvGrpSpPr>
              <p:cNvPr id="564" name="组合 20525"/>
              <p:cNvGrpSpPr/>
              <p:nvPr/>
            </p:nvGrpSpPr>
            <p:grpSpPr>
              <a:xfrm>
                <a:off x="1609560" y="5013360"/>
                <a:ext cx="521640" cy="815040"/>
                <a:chOff x="1609560" y="5013360"/>
                <a:chExt cx="521640" cy="815040"/>
              </a:xfrm>
            </p:grpSpPr>
            <p:sp>
              <p:nvSpPr>
                <p:cNvPr id="565" name="文本框 20526"/>
                <p:cNvSpPr/>
                <p:nvPr/>
              </p:nvSpPr>
              <p:spPr>
                <a:xfrm>
                  <a:off x="1626840" y="5368680"/>
                  <a:ext cx="504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66" name="文本框 20527"/>
                <p:cNvSpPr/>
                <p:nvPr/>
              </p:nvSpPr>
              <p:spPr>
                <a:xfrm>
                  <a:off x="1631520" y="501336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67" name="直接连接符 20528"/>
                <p:cNvSpPr/>
                <p:nvPr/>
              </p:nvSpPr>
              <p:spPr>
                <a:xfrm>
                  <a:off x="1609560" y="543204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568" name="文本框 20529"/>
              <p:cNvSpPr/>
              <p:nvPr/>
            </p:nvSpPr>
            <p:spPr>
              <a:xfrm>
                <a:off x="1258920" y="5234040"/>
                <a:ext cx="223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（   ＋   ）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69" name="组合 20530"/>
              <p:cNvGrpSpPr/>
              <p:nvPr/>
            </p:nvGrpSpPr>
            <p:grpSpPr>
              <a:xfrm>
                <a:off x="2286000" y="5022720"/>
                <a:ext cx="521280" cy="815400"/>
                <a:chOff x="2286000" y="5022720"/>
                <a:chExt cx="521280" cy="815400"/>
              </a:xfrm>
            </p:grpSpPr>
            <p:sp>
              <p:nvSpPr>
                <p:cNvPr id="570" name="文本框 20531"/>
                <p:cNvSpPr/>
                <p:nvPr/>
              </p:nvSpPr>
              <p:spPr>
                <a:xfrm>
                  <a:off x="2303280" y="5378400"/>
                  <a:ext cx="504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71" name="文本框 20532"/>
                <p:cNvSpPr/>
                <p:nvPr/>
              </p:nvSpPr>
              <p:spPr>
                <a:xfrm>
                  <a:off x="2307960" y="5022720"/>
                  <a:ext cx="359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72" name="直接连接符 20533"/>
                <p:cNvSpPr/>
                <p:nvPr/>
              </p:nvSpPr>
              <p:spPr>
                <a:xfrm>
                  <a:off x="2286000" y="5441760"/>
                  <a:ext cx="359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grpSp>
          <p:nvGrpSpPr>
            <p:cNvPr id="573" name="组合 20534"/>
            <p:cNvGrpSpPr/>
            <p:nvPr/>
          </p:nvGrpSpPr>
          <p:grpSpPr>
            <a:xfrm>
              <a:off x="3414600" y="5027760"/>
              <a:ext cx="2879640" cy="824400"/>
              <a:chOff x="3414600" y="5027760"/>
              <a:chExt cx="2879640" cy="824400"/>
            </a:xfrm>
          </p:grpSpPr>
          <p:grpSp>
            <p:nvGrpSpPr>
              <p:cNvPr id="574" name="组合 20535"/>
              <p:cNvGrpSpPr/>
              <p:nvPr/>
            </p:nvGrpSpPr>
            <p:grpSpPr>
              <a:xfrm>
                <a:off x="3765240" y="5027760"/>
                <a:ext cx="522360" cy="815040"/>
                <a:chOff x="3765240" y="5027760"/>
                <a:chExt cx="522360" cy="815040"/>
              </a:xfrm>
            </p:grpSpPr>
            <p:sp>
              <p:nvSpPr>
                <p:cNvPr id="575" name="文本框 20536"/>
                <p:cNvSpPr/>
                <p:nvPr/>
              </p:nvSpPr>
              <p:spPr>
                <a:xfrm>
                  <a:off x="3782880" y="53830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76" name="文本框 20537"/>
                <p:cNvSpPr/>
                <p:nvPr/>
              </p:nvSpPr>
              <p:spPr>
                <a:xfrm>
                  <a:off x="3787560" y="50277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77" name="直接连接符 20538"/>
                <p:cNvSpPr/>
                <p:nvPr/>
              </p:nvSpPr>
              <p:spPr>
                <a:xfrm>
                  <a:off x="3765240" y="544644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578" name="文本框 20539"/>
              <p:cNvSpPr/>
              <p:nvPr/>
            </p:nvSpPr>
            <p:spPr>
              <a:xfrm>
                <a:off x="3414600" y="5248080"/>
                <a:ext cx="287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  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＋   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×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79" name="组合 20540"/>
              <p:cNvGrpSpPr/>
              <p:nvPr/>
            </p:nvGrpSpPr>
            <p:grpSpPr>
              <a:xfrm>
                <a:off x="4922640" y="5037120"/>
                <a:ext cx="522360" cy="815040"/>
                <a:chOff x="4922640" y="5037120"/>
                <a:chExt cx="522360" cy="815040"/>
              </a:xfrm>
            </p:grpSpPr>
            <p:sp>
              <p:nvSpPr>
                <p:cNvPr id="580" name="文本框 20541"/>
                <p:cNvSpPr/>
                <p:nvPr/>
              </p:nvSpPr>
              <p:spPr>
                <a:xfrm>
                  <a:off x="4940280" y="53924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81" name="文本框 20542"/>
                <p:cNvSpPr/>
                <p:nvPr/>
              </p:nvSpPr>
              <p:spPr>
                <a:xfrm>
                  <a:off x="4944960" y="50371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82" name="直接连接符 20543"/>
                <p:cNvSpPr/>
                <p:nvPr/>
              </p:nvSpPr>
              <p:spPr>
                <a:xfrm>
                  <a:off x="4922640" y="54558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583" name="文本框 20544"/>
            <p:cNvSpPr/>
            <p:nvPr/>
          </p:nvSpPr>
          <p:spPr>
            <a:xfrm>
              <a:off x="3295800" y="523908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一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二）解决问题，提炼方法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1344600" y="52671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从这些算式中，你发现了什么规律？（左右两边的结果相同。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622440" y="576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结：整数乘法的交换律、结合律和分配律，对于分数乘法也适用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8" name="Rectangle 2"/>
          <p:cNvSpPr/>
          <p:nvPr/>
        </p:nvSpPr>
        <p:spPr>
          <a:xfrm>
            <a:off x="611280" y="2133720"/>
            <a:ext cx="818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观察每组的两个算式，看看它们有什么关系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89" name="组合 21510"/>
          <p:cNvGrpSpPr/>
          <p:nvPr/>
        </p:nvGrpSpPr>
        <p:grpSpPr>
          <a:xfrm>
            <a:off x="1709640" y="2530440"/>
            <a:ext cx="5464440" cy="2658240"/>
            <a:chOff x="1709640" y="2530440"/>
            <a:chExt cx="5464440" cy="2658240"/>
          </a:xfrm>
        </p:grpSpPr>
        <p:grpSp>
          <p:nvGrpSpPr>
            <p:cNvPr id="590" name="组合 21511"/>
            <p:cNvGrpSpPr/>
            <p:nvPr/>
          </p:nvGrpSpPr>
          <p:grpSpPr>
            <a:xfrm>
              <a:off x="1709640" y="2530440"/>
              <a:ext cx="5464440" cy="1780200"/>
              <a:chOff x="1709640" y="2530440"/>
              <a:chExt cx="5464440" cy="1780200"/>
            </a:xfrm>
          </p:grpSpPr>
          <p:grpSp>
            <p:nvGrpSpPr>
              <p:cNvPr id="591" name="组合 21512"/>
              <p:cNvGrpSpPr/>
              <p:nvPr/>
            </p:nvGrpSpPr>
            <p:grpSpPr>
              <a:xfrm>
                <a:off x="2911680" y="2549520"/>
                <a:ext cx="1263240" cy="833760"/>
                <a:chOff x="2911680" y="2549520"/>
                <a:chExt cx="1263240" cy="833760"/>
              </a:xfrm>
            </p:grpSpPr>
            <p:sp>
              <p:nvSpPr>
                <p:cNvPr id="592" name="Text Box 8"/>
                <p:cNvSpPr/>
                <p:nvPr/>
              </p:nvSpPr>
              <p:spPr>
                <a:xfrm>
                  <a:off x="3255840" y="2781000"/>
                  <a:ext cx="338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4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宋体"/>
                    </a:rPr>
                    <a:t>×</a:t>
                  </a: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593" name="组合 21514"/>
                <p:cNvGrpSpPr/>
                <p:nvPr/>
              </p:nvGrpSpPr>
              <p:grpSpPr>
                <a:xfrm>
                  <a:off x="3641760" y="2549520"/>
                  <a:ext cx="533160" cy="815040"/>
                  <a:chOff x="3641760" y="2549520"/>
                  <a:chExt cx="533160" cy="815040"/>
                </a:xfrm>
              </p:grpSpPr>
              <p:sp>
                <p:nvSpPr>
                  <p:cNvPr id="594" name="文本框 21515"/>
                  <p:cNvSpPr/>
                  <p:nvPr/>
                </p:nvSpPr>
                <p:spPr>
                  <a:xfrm>
                    <a:off x="3670200" y="290484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595" name="文本框 21516"/>
                  <p:cNvSpPr/>
                  <p:nvPr/>
                </p:nvSpPr>
                <p:spPr>
                  <a:xfrm>
                    <a:off x="3654360" y="254952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596" name="直接连接符 21517"/>
                  <p:cNvSpPr/>
                  <p:nvPr/>
                </p:nvSpPr>
                <p:spPr>
                  <a:xfrm>
                    <a:off x="3641760" y="296820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597" name="组合 21518"/>
                <p:cNvGrpSpPr/>
                <p:nvPr/>
              </p:nvGrpSpPr>
              <p:grpSpPr>
                <a:xfrm>
                  <a:off x="2911680" y="2568240"/>
                  <a:ext cx="523800" cy="815040"/>
                  <a:chOff x="2911680" y="2568240"/>
                  <a:chExt cx="523800" cy="815040"/>
                </a:xfrm>
              </p:grpSpPr>
              <p:sp>
                <p:nvSpPr>
                  <p:cNvPr id="598" name="文本框 21519"/>
                  <p:cNvSpPr/>
                  <p:nvPr/>
                </p:nvSpPr>
                <p:spPr>
                  <a:xfrm>
                    <a:off x="2930760" y="292356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599" name="文本框 21520"/>
                  <p:cNvSpPr/>
                  <p:nvPr/>
                </p:nvSpPr>
                <p:spPr>
                  <a:xfrm>
                    <a:off x="2934000" y="256824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00" name="直接连接符 21521"/>
                  <p:cNvSpPr/>
                  <p:nvPr/>
                </p:nvSpPr>
                <p:spPr>
                  <a:xfrm>
                    <a:off x="2911680" y="298692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1" name="组合 21522"/>
              <p:cNvGrpSpPr/>
              <p:nvPr/>
            </p:nvGrpSpPr>
            <p:grpSpPr>
              <a:xfrm>
                <a:off x="4659480" y="2530440"/>
                <a:ext cx="1263240" cy="833760"/>
                <a:chOff x="4659480" y="2530440"/>
                <a:chExt cx="1263240" cy="833760"/>
              </a:xfrm>
            </p:grpSpPr>
            <p:sp>
              <p:nvSpPr>
                <p:cNvPr id="602" name="Text Box 8"/>
                <p:cNvSpPr/>
                <p:nvPr/>
              </p:nvSpPr>
              <p:spPr>
                <a:xfrm>
                  <a:off x="5003640" y="2761920"/>
                  <a:ext cx="338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4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宋体"/>
                    </a:rPr>
                    <a:t>×</a:t>
                  </a: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603" name="组合 21524"/>
                <p:cNvGrpSpPr/>
                <p:nvPr/>
              </p:nvGrpSpPr>
              <p:grpSpPr>
                <a:xfrm>
                  <a:off x="5389560" y="2530440"/>
                  <a:ext cx="533160" cy="815040"/>
                  <a:chOff x="5389560" y="2530440"/>
                  <a:chExt cx="533160" cy="815040"/>
                </a:xfrm>
              </p:grpSpPr>
              <p:sp>
                <p:nvSpPr>
                  <p:cNvPr id="604" name="文本框 21525"/>
                  <p:cNvSpPr/>
                  <p:nvPr/>
                </p:nvSpPr>
                <p:spPr>
                  <a:xfrm>
                    <a:off x="5418000" y="288576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05" name="文本框 21526"/>
                  <p:cNvSpPr/>
                  <p:nvPr/>
                </p:nvSpPr>
                <p:spPr>
                  <a:xfrm>
                    <a:off x="5402160" y="253044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06" name="直接连接符 21527"/>
                  <p:cNvSpPr/>
                  <p:nvPr/>
                </p:nvSpPr>
                <p:spPr>
                  <a:xfrm>
                    <a:off x="5389560" y="294912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607" name="组合 21528"/>
                <p:cNvGrpSpPr/>
                <p:nvPr/>
              </p:nvGrpSpPr>
              <p:grpSpPr>
                <a:xfrm>
                  <a:off x="4659480" y="2549160"/>
                  <a:ext cx="523800" cy="815040"/>
                  <a:chOff x="4659480" y="2549160"/>
                  <a:chExt cx="523800" cy="815040"/>
                </a:xfrm>
              </p:grpSpPr>
              <p:sp>
                <p:nvSpPr>
                  <p:cNvPr id="608" name="文本框 21529"/>
                  <p:cNvSpPr/>
                  <p:nvPr/>
                </p:nvSpPr>
                <p:spPr>
                  <a:xfrm>
                    <a:off x="4678560" y="290448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09" name="文本框 21530"/>
                  <p:cNvSpPr/>
                  <p:nvPr/>
                </p:nvSpPr>
                <p:spPr>
                  <a:xfrm>
                    <a:off x="4681800" y="254916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10" name="直接连接符 21531"/>
                  <p:cNvSpPr/>
                  <p:nvPr/>
                </p:nvSpPr>
                <p:spPr>
                  <a:xfrm>
                    <a:off x="4659480" y="296784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sp>
            <p:nvSpPr>
              <p:cNvPr id="611" name="椭圆 21532"/>
              <p:cNvSpPr/>
              <p:nvPr/>
            </p:nvSpPr>
            <p:spPr>
              <a:xfrm>
                <a:off x="4111560" y="2751120"/>
                <a:ext cx="432000" cy="4330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612" name="组合 21533"/>
              <p:cNvGrpSpPr/>
              <p:nvPr/>
            </p:nvGrpSpPr>
            <p:grpSpPr>
              <a:xfrm>
                <a:off x="1709640" y="3485880"/>
                <a:ext cx="2445840" cy="824760"/>
                <a:chOff x="1709640" y="3485880"/>
                <a:chExt cx="2445840" cy="824760"/>
              </a:xfrm>
            </p:grpSpPr>
            <p:grpSp>
              <p:nvGrpSpPr>
                <p:cNvPr id="613" name="组合 21534"/>
                <p:cNvGrpSpPr/>
                <p:nvPr/>
              </p:nvGrpSpPr>
              <p:grpSpPr>
                <a:xfrm>
                  <a:off x="2060640" y="3485880"/>
                  <a:ext cx="521640" cy="815400"/>
                  <a:chOff x="2060640" y="3485880"/>
                  <a:chExt cx="521640" cy="815400"/>
                </a:xfrm>
              </p:grpSpPr>
              <p:sp>
                <p:nvSpPr>
                  <p:cNvPr id="614" name="文本框 21535"/>
                  <p:cNvSpPr/>
                  <p:nvPr/>
                </p:nvSpPr>
                <p:spPr>
                  <a:xfrm>
                    <a:off x="2077920" y="384156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4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15" name="文本框 21536"/>
                  <p:cNvSpPr/>
                  <p:nvPr/>
                </p:nvSpPr>
                <p:spPr>
                  <a:xfrm>
                    <a:off x="2082600" y="348588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16" name="直接连接符 21537"/>
                  <p:cNvSpPr/>
                  <p:nvPr/>
                </p:nvSpPr>
                <p:spPr>
                  <a:xfrm>
                    <a:off x="2060640" y="390492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617" name="文本框 21538"/>
                <p:cNvSpPr/>
                <p:nvPr/>
              </p:nvSpPr>
              <p:spPr>
                <a:xfrm>
                  <a:off x="1709640" y="3706560"/>
                  <a:ext cx="2232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（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  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）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618" name="组合 21539"/>
                <p:cNvGrpSpPr/>
                <p:nvPr/>
              </p:nvGrpSpPr>
              <p:grpSpPr>
                <a:xfrm>
                  <a:off x="2736720" y="3495600"/>
                  <a:ext cx="522360" cy="815040"/>
                  <a:chOff x="2736720" y="3495600"/>
                  <a:chExt cx="522360" cy="815040"/>
                </a:xfrm>
              </p:grpSpPr>
              <p:sp>
                <p:nvSpPr>
                  <p:cNvPr id="619" name="文本框 21540"/>
                  <p:cNvSpPr/>
                  <p:nvPr/>
                </p:nvSpPr>
                <p:spPr>
                  <a:xfrm>
                    <a:off x="2754360" y="385092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20" name="文本框 21541"/>
                  <p:cNvSpPr/>
                  <p:nvPr/>
                </p:nvSpPr>
                <p:spPr>
                  <a:xfrm>
                    <a:off x="2759040" y="349560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21" name="直接连接符 21542"/>
                  <p:cNvSpPr/>
                  <p:nvPr/>
                </p:nvSpPr>
                <p:spPr>
                  <a:xfrm>
                    <a:off x="2736720" y="391428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622" name="组合 21543"/>
                <p:cNvGrpSpPr/>
                <p:nvPr/>
              </p:nvGrpSpPr>
              <p:grpSpPr>
                <a:xfrm>
                  <a:off x="3633840" y="3485880"/>
                  <a:ext cx="521640" cy="815400"/>
                  <a:chOff x="3633840" y="3485880"/>
                  <a:chExt cx="521640" cy="815400"/>
                </a:xfrm>
              </p:grpSpPr>
              <p:sp>
                <p:nvSpPr>
                  <p:cNvPr id="623" name="文本框 21544"/>
                  <p:cNvSpPr/>
                  <p:nvPr/>
                </p:nvSpPr>
                <p:spPr>
                  <a:xfrm>
                    <a:off x="3651120" y="384156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24" name="文本框 21545"/>
                  <p:cNvSpPr/>
                  <p:nvPr/>
                </p:nvSpPr>
                <p:spPr>
                  <a:xfrm>
                    <a:off x="3655800" y="348588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25" name="直接连接符 21546"/>
                  <p:cNvSpPr/>
                  <p:nvPr/>
                </p:nvSpPr>
                <p:spPr>
                  <a:xfrm>
                    <a:off x="3633840" y="390492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6" name="组合 21547"/>
              <p:cNvGrpSpPr/>
              <p:nvPr/>
            </p:nvGrpSpPr>
            <p:grpSpPr>
              <a:xfrm>
                <a:off x="4581720" y="3485880"/>
                <a:ext cx="2592360" cy="815400"/>
                <a:chOff x="4581720" y="3485880"/>
                <a:chExt cx="2592360" cy="815400"/>
              </a:xfrm>
            </p:grpSpPr>
            <p:grpSp>
              <p:nvGrpSpPr>
                <p:cNvPr id="627" name="组合 21548"/>
                <p:cNvGrpSpPr/>
                <p:nvPr/>
              </p:nvGrpSpPr>
              <p:grpSpPr>
                <a:xfrm>
                  <a:off x="4643640" y="3485880"/>
                  <a:ext cx="521640" cy="815400"/>
                  <a:chOff x="4643640" y="3485880"/>
                  <a:chExt cx="521640" cy="815400"/>
                </a:xfrm>
              </p:grpSpPr>
              <p:sp>
                <p:nvSpPr>
                  <p:cNvPr id="628" name="文本框 21549"/>
                  <p:cNvSpPr/>
                  <p:nvPr/>
                </p:nvSpPr>
                <p:spPr>
                  <a:xfrm>
                    <a:off x="4660920" y="384156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4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29" name="文本框 21550"/>
                  <p:cNvSpPr/>
                  <p:nvPr/>
                </p:nvSpPr>
                <p:spPr>
                  <a:xfrm>
                    <a:off x="4665600" y="348588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30" name="直接连接符 21551"/>
                  <p:cNvSpPr/>
                  <p:nvPr/>
                </p:nvSpPr>
                <p:spPr>
                  <a:xfrm>
                    <a:off x="4643640" y="390492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631" name="文本框 21552"/>
                <p:cNvSpPr/>
                <p:nvPr/>
              </p:nvSpPr>
              <p:spPr>
                <a:xfrm>
                  <a:off x="4581720" y="3706560"/>
                  <a:ext cx="259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（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  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）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632" name="组合 21553"/>
                <p:cNvGrpSpPr/>
                <p:nvPr/>
              </p:nvGrpSpPr>
              <p:grpSpPr>
                <a:xfrm>
                  <a:off x="5589720" y="3485880"/>
                  <a:ext cx="522360" cy="815400"/>
                  <a:chOff x="5589720" y="3485880"/>
                  <a:chExt cx="522360" cy="815400"/>
                </a:xfrm>
              </p:grpSpPr>
              <p:sp>
                <p:nvSpPr>
                  <p:cNvPr id="633" name="文本框 21554"/>
                  <p:cNvSpPr/>
                  <p:nvPr/>
                </p:nvSpPr>
                <p:spPr>
                  <a:xfrm>
                    <a:off x="5607360" y="384156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34" name="文本框 21555"/>
                  <p:cNvSpPr/>
                  <p:nvPr/>
                </p:nvSpPr>
                <p:spPr>
                  <a:xfrm>
                    <a:off x="5612040" y="348588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35" name="直接连接符 21556"/>
                  <p:cNvSpPr/>
                  <p:nvPr/>
                </p:nvSpPr>
                <p:spPr>
                  <a:xfrm>
                    <a:off x="5589720" y="390492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636" name="组合 21557"/>
                <p:cNvGrpSpPr/>
                <p:nvPr/>
              </p:nvGrpSpPr>
              <p:grpSpPr>
                <a:xfrm>
                  <a:off x="6235920" y="3485880"/>
                  <a:ext cx="521640" cy="815400"/>
                  <a:chOff x="6235920" y="3485880"/>
                  <a:chExt cx="521640" cy="815400"/>
                </a:xfrm>
              </p:grpSpPr>
              <p:sp>
                <p:nvSpPr>
                  <p:cNvPr id="637" name="文本框 21558"/>
                  <p:cNvSpPr/>
                  <p:nvPr/>
                </p:nvSpPr>
                <p:spPr>
                  <a:xfrm>
                    <a:off x="6253200" y="384156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38" name="文本框 21559"/>
                  <p:cNvSpPr/>
                  <p:nvPr/>
                </p:nvSpPr>
                <p:spPr>
                  <a:xfrm>
                    <a:off x="6257880" y="348588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39" name="直接连接符 21560"/>
                  <p:cNvSpPr/>
                  <p:nvPr/>
                </p:nvSpPr>
                <p:spPr>
                  <a:xfrm>
                    <a:off x="6235920" y="390492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40" name="椭圆 21561"/>
            <p:cNvSpPr/>
            <p:nvPr/>
          </p:nvSpPr>
          <p:spPr>
            <a:xfrm>
              <a:off x="4118040" y="3690720"/>
              <a:ext cx="4316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641" name="组合 21562"/>
            <p:cNvGrpSpPr/>
            <p:nvPr/>
          </p:nvGrpSpPr>
          <p:grpSpPr>
            <a:xfrm>
              <a:off x="1751040" y="4349520"/>
              <a:ext cx="2393640" cy="839160"/>
              <a:chOff x="1751040" y="4349520"/>
              <a:chExt cx="2393640" cy="839160"/>
            </a:xfrm>
          </p:grpSpPr>
          <p:grpSp>
            <p:nvGrpSpPr>
              <p:cNvPr id="642" name="组合 21563"/>
              <p:cNvGrpSpPr/>
              <p:nvPr/>
            </p:nvGrpSpPr>
            <p:grpSpPr>
              <a:xfrm>
                <a:off x="1751040" y="4349520"/>
                <a:ext cx="2232360" cy="824760"/>
                <a:chOff x="1751040" y="4349520"/>
                <a:chExt cx="2232360" cy="824760"/>
              </a:xfrm>
            </p:grpSpPr>
            <p:grpSp>
              <p:nvGrpSpPr>
                <p:cNvPr id="643" name="组合 21564"/>
                <p:cNvGrpSpPr/>
                <p:nvPr/>
              </p:nvGrpSpPr>
              <p:grpSpPr>
                <a:xfrm>
                  <a:off x="2102040" y="4349520"/>
                  <a:ext cx="522360" cy="815040"/>
                  <a:chOff x="2102040" y="4349520"/>
                  <a:chExt cx="522360" cy="815040"/>
                </a:xfrm>
              </p:grpSpPr>
              <p:sp>
                <p:nvSpPr>
                  <p:cNvPr id="644" name="文本框 21565"/>
                  <p:cNvSpPr/>
                  <p:nvPr/>
                </p:nvSpPr>
                <p:spPr>
                  <a:xfrm>
                    <a:off x="2119680" y="470484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45" name="文本框 21566"/>
                  <p:cNvSpPr/>
                  <p:nvPr/>
                </p:nvSpPr>
                <p:spPr>
                  <a:xfrm>
                    <a:off x="2124360" y="434952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46" name="直接连接符 21567"/>
                  <p:cNvSpPr/>
                  <p:nvPr/>
                </p:nvSpPr>
                <p:spPr>
                  <a:xfrm>
                    <a:off x="2102040" y="476820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647" name="文本框 21568"/>
                <p:cNvSpPr/>
                <p:nvPr/>
              </p:nvSpPr>
              <p:spPr>
                <a:xfrm>
                  <a:off x="1751040" y="4570200"/>
                  <a:ext cx="223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（   ＋   ）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648" name="组合 21569"/>
                <p:cNvGrpSpPr/>
                <p:nvPr/>
              </p:nvGrpSpPr>
              <p:grpSpPr>
                <a:xfrm>
                  <a:off x="2778480" y="4358880"/>
                  <a:ext cx="521640" cy="815400"/>
                  <a:chOff x="2778480" y="4358880"/>
                  <a:chExt cx="521640" cy="815400"/>
                </a:xfrm>
              </p:grpSpPr>
              <p:sp>
                <p:nvSpPr>
                  <p:cNvPr id="649" name="文本框 21570"/>
                  <p:cNvSpPr/>
                  <p:nvPr/>
                </p:nvSpPr>
                <p:spPr>
                  <a:xfrm>
                    <a:off x="2795760" y="471456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50" name="文本框 21571"/>
                  <p:cNvSpPr/>
                  <p:nvPr/>
                </p:nvSpPr>
                <p:spPr>
                  <a:xfrm>
                    <a:off x="2800440" y="435888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51" name="直接连接符 21572"/>
                  <p:cNvSpPr/>
                  <p:nvPr/>
                </p:nvSpPr>
                <p:spPr>
                  <a:xfrm>
                    <a:off x="2778480" y="477792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2" name="组合 21573"/>
              <p:cNvGrpSpPr/>
              <p:nvPr/>
            </p:nvGrpSpPr>
            <p:grpSpPr>
              <a:xfrm>
                <a:off x="3623040" y="4373280"/>
                <a:ext cx="521640" cy="815400"/>
                <a:chOff x="3623040" y="4373280"/>
                <a:chExt cx="521640" cy="815400"/>
              </a:xfrm>
            </p:grpSpPr>
            <p:sp>
              <p:nvSpPr>
                <p:cNvPr id="653" name="文本框 21574"/>
                <p:cNvSpPr/>
                <p:nvPr/>
              </p:nvSpPr>
              <p:spPr>
                <a:xfrm>
                  <a:off x="3640320" y="4728960"/>
                  <a:ext cx="504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54" name="文本框 21575"/>
                <p:cNvSpPr/>
                <p:nvPr/>
              </p:nvSpPr>
              <p:spPr>
                <a:xfrm>
                  <a:off x="3645000" y="437328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55" name="直接连接符 21576"/>
                <p:cNvSpPr/>
                <p:nvPr/>
              </p:nvSpPr>
              <p:spPr>
                <a:xfrm>
                  <a:off x="3623040" y="479232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grpSp>
          <p:nvGrpSpPr>
            <p:cNvPr id="656" name="组合 21577"/>
            <p:cNvGrpSpPr/>
            <p:nvPr/>
          </p:nvGrpSpPr>
          <p:grpSpPr>
            <a:xfrm>
              <a:off x="4294080" y="4340160"/>
              <a:ext cx="2879640" cy="820080"/>
              <a:chOff x="4294080" y="4340160"/>
              <a:chExt cx="2879640" cy="820080"/>
            </a:xfrm>
          </p:grpSpPr>
          <p:grpSp>
            <p:nvGrpSpPr>
              <p:cNvPr id="657" name="组合 21578"/>
              <p:cNvGrpSpPr/>
              <p:nvPr/>
            </p:nvGrpSpPr>
            <p:grpSpPr>
              <a:xfrm>
                <a:off x="4645080" y="4344840"/>
                <a:ext cx="521640" cy="815400"/>
                <a:chOff x="4645080" y="4344840"/>
                <a:chExt cx="521640" cy="815400"/>
              </a:xfrm>
            </p:grpSpPr>
            <p:sp>
              <p:nvSpPr>
                <p:cNvPr id="658" name="文本框 21579"/>
                <p:cNvSpPr/>
                <p:nvPr/>
              </p:nvSpPr>
              <p:spPr>
                <a:xfrm>
                  <a:off x="4662360" y="4700520"/>
                  <a:ext cx="504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59" name="文本框 21580"/>
                <p:cNvSpPr/>
                <p:nvPr/>
              </p:nvSpPr>
              <p:spPr>
                <a:xfrm>
                  <a:off x="4667040" y="434484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60" name="直接连接符 21581"/>
                <p:cNvSpPr/>
                <p:nvPr/>
              </p:nvSpPr>
              <p:spPr>
                <a:xfrm>
                  <a:off x="4645080" y="476388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661" name="文本框 21582"/>
              <p:cNvSpPr/>
              <p:nvPr/>
            </p:nvSpPr>
            <p:spPr>
              <a:xfrm>
                <a:off x="4294080" y="4565520"/>
                <a:ext cx="287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  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   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＋   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×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662" name="组合 21583"/>
              <p:cNvGrpSpPr/>
              <p:nvPr/>
            </p:nvGrpSpPr>
            <p:grpSpPr>
              <a:xfrm>
                <a:off x="5897520" y="4344840"/>
                <a:ext cx="522360" cy="815400"/>
                <a:chOff x="5897520" y="4344840"/>
                <a:chExt cx="522360" cy="815400"/>
              </a:xfrm>
            </p:grpSpPr>
            <p:sp>
              <p:nvSpPr>
                <p:cNvPr id="663" name="文本框 21584"/>
                <p:cNvSpPr/>
                <p:nvPr/>
              </p:nvSpPr>
              <p:spPr>
                <a:xfrm>
                  <a:off x="5915160" y="47005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64" name="文本框 21585"/>
                <p:cNvSpPr/>
                <p:nvPr/>
              </p:nvSpPr>
              <p:spPr>
                <a:xfrm>
                  <a:off x="5919840" y="43448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65" name="直接连接符 21586"/>
                <p:cNvSpPr/>
                <p:nvPr/>
              </p:nvSpPr>
              <p:spPr>
                <a:xfrm>
                  <a:off x="5897520" y="476388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666" name="组合 21587"/>
              <p:cNvGrpSpPr/>
              <p:nvPr/>
            </p:nvGrpSpPr>
            <p:grpSpPr>
              <a:xfrm>
                <a:off x="5267160" y="4340160"/>
                <a:ext cx="522360" cy="815040"/>
                <a:chOff x="5267160" y="4340160"/>
                <a:chExt cx="522360" cy="815040"/>
              </a:xfrm>
            </p:grpSpPr>
            <p:sp>
              <p:nvSpPr>
                <p:cNvPr id="667" name="文本框 21588"/>
                <p:cNvSpPr/>
                <p:nvPr/>
              </p:nvSpPr>
              <p:spPr>
                <a:xfrm>
                  <a:off x="5284800" y="46954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68" name="文本框 21589"/>
                <p:cNvSpPr/>
                <p:nvPr/>
              </p:nvSpPr>
              <p:spPr>
                <a:xfrm>
                  <a:off x="5289480" y="43401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69" name="直接连接符 21590"/>
                <p:cNvSpPr/>
                <p:nvPr/>
              </p:nvSpPr>
              <p:spPr>
                <a:xfrm>
                  <a:off x="5267160" y="475884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670" name="组合 21591"/>
              <p:cNvGrpSpPr/>
              <p:nvPr/>
            </p:nvGrpSpPr>
            <p:grpSpPr>
              <a:xfrm>
                <a:off x="6588000" y="4344840"/>
                <a:ext cx="522360" cy="815400"/>
                <a:chOff x="6588000" y="4344840"/>
                <a:chExt cx="522360" cy="815400"/>
              </a:xfrm>
            </p:grpSpPr>
            <p:sp>
              <p:nvSpPr>
                <p:cNvPr id="671" name="文本框 21592"/>
                <p:cNvSpPr/>
                <p:nvPr/>
              </p:nvSpPr>
              <p:spPr>
                <a:xfrm>
                  <a:off x="6605640" y="47005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72" name="文本框 21593"/>
                <p:cNvSpPr/>
                <p:nvPr/>
              </p:nvSpPr>
              <p:spPr>
                <a:xfrm>
                  <a:off x="6610320" y="43448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73" name="直接连接符 21594"/>
                <p:cNvSpPr/>
                <p:nvPr/>
              </p:nvSpPr>
              <p:spPr>
                <a:xfrm>
                  <a:off x="6588000" y="476388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674" name="椭圆 21595"/>
            <p:cNvSpPr/>
            <p:nvPr/>
          </p:nvSpPr>
          <p:spPr>
            <a:xfrm>
              <a:off x="4118040" y="4574880"/>
              <a:ext cx="4316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75" name="矩形 21597"/>
          <p:cNvSpPr/>
          <p:nvPr/>
        </p:nvSpPr>
        <p:spPr>
          <a:xfrm>
            <a:off x="7038720" y="350028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运用定律 简便计算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758880" y="5637240"/>
            <a:ext cx="80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研讨问题：你运用了什么运算定律？（乘法交换律和乘法结合律。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1027080" y="1689120"/>
            <a:ext cx="73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7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760320" y="4149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研讨问题：你是怎样想的？（先做小括号里的，再做括号外的。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0" name="Text Box 18"/>
          <p:cNvSpPr/>
          <p:nvPr/>
        </p:nvSpPr>
        <p:spPr>
          <a:xfrm>
            <a:off x="755640" y="2470320"/>
            <a:ext cx="70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问题：请你先独立计算上面两道题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81" name="组合 22534"/>
          <p:cNvGrpSpPr/>
          <p:nvPr/>
        </p:nvGrpSpPr>
        <p:grpSpPr>
          <a:xfrm>
            <a:off x="4211640" y="1450800"/>
            <a:ext cx="2573280" cy="824760"/>
            <a:chOff x="4211640" y="1450800"/>
            <a:chExt cx="2573280" cy="824760"/>
          </a:xfrm>
        </p:grpSpPr>
        <p:grpSp>
          <p:nvGrpSpPr>
            <p:cNvPr id="682" name="组合 22535"/>
            <p:cNvGrpSpPr/>
            <p:nvPr/>
          </p:nvGrpSpPr>
          <p:grpSpPr>
            <a:xfrm>
              <a:off x="4562280" y="1450800"/>
              <a:ext cx="522360" cy="815040"/>
              <a:chOff x="4562280" y="1450800"/>
              <a:chExt cx="522360" cy="815040"/>
            </a:xfrm>
          </p:grpSpPr>
          <p:sp>
            <p:nvSpPr>
              <p:cNvPr id="683" name="文本框 22536"/>
              <p:cNvSpPr/>
              <p:nvPr/>
            </p:nvSpPr>
            <p:spPr>
              <a:xfrm>
                <a:off x="4579920" y="18061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84" name="文本框 22537"/>
              <p:cNvSpPr/>
              <p:nvPr/>
            </p:nvSpPr>
            <p:spPr>
              <a:xfrm>
                <a:off x="4584600" y="14508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85" name="直接连接符 22538"/>
              <p:cNvSpPr/>
              <p:nvPr/>
            </p:nvSpPr>
            <p:spPr>
              <a:xfrm>
                <a:off x="4562280" y="18694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686" name="文本框 22539"/>
            <p:cNvSpPr/>
            <p:nvPr/>
          </p:nvSpPr>
          <p:spPr>
            <a:xfrm>
              <a:off x="4211640" y="1671480"/>
              <a:ext cx="257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   ＋   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687" name="组合 22540"/>
            <p:cNvGrpSpPr/>
            <p:nvPr/>
          </p:nvGrpSpPr>
          <p:grpSpPr>
            <a:xfrm>
              <a:off x="5238720" y="1460160"/>
              <a:ext cx="521640" cy="815400"/>
              <a:chOff x="5238720" y="1460160"/>
              <a:chExt cx="521640" cy="815400"/>
            </a:xfrm>
          </p:grpSpPr>
          <p:sp>
            <p:nvSpPr>
              <p:cNvPr id="688" name="文本框 22541"/>
              <p:cNvSpPr/>
              <p:nvPr/>
            </p:nvSpPr>
            <p:spPr>
              <a:xfrm>
                <a:off x="5256000" y="181584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89" name="文本框 22542"/>
              <p:cNvSpPr/>
              <p:nvPr/>
            </p:nvSpPr>
            <p:spPr>
              <a:xfrm>
                <a:off x="5260680" y="146016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90" name="直接连接符 22543"/>
              <p:cNvSpPr/>
              <p:nvPr/>
            </p:nvSpPr>
            <p:spPr>
              <a:xfrm>
                <a:off x="5238720" y="187920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691" name="组合 22544"/>
          <p:cNvGrpSpPr/>
          <p:nvPr/>
        </p:nvGrpSpPr>
        <p:grpSpPr>
          <a:xfrm>
            <a:off x="1562040" y="1474920"/>
            <a:ext cx="3457440" cy="815040"/>
            <a:chOff x="1562040" y="1474920"/>
            <a:chExt cx="3457440" cy="815040"/>
          </a:xfrm>
        </p:grpSpPr>
        <p:grpSp>
          <p:nvGrpSpPr>
            <p:cNvPr id="692" name="组合 22545"/>
            <p:cNvGrpSpPr/>
            <p:nvPr/>
          </p:nvGrpSpPr>
          <p:grpSpPr>
            <a:xfrm>
              <a:off x="1912680" y="1474920"/>
              <a:ext cx="522360" cy="815040"/>
              <a:chOff x="1912680" y="1474920"/>
              <a:chExt cx="522360" cy="815040"/>
            </a:xfrm>
          </p:grpSpPr>
          <p:sp>
            <p:nvSpPr>
              <p:cNvPr id="693" name="文本框 22546"/>
              <p:cNvSpPr/>
              <p:nvPr/>
            </p:nvSpPr>
            <p:spPr>
              <a:xfrm>
                <a:off x="1930320" y="18302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94" name="文本框 22547"/>
              <p:cNvSpPr/>
              <p:nvPr/>
            </p:nvSpPr>
            <p:spPr>
              <a:xfrm>
                <a:off x="1935000" y="14749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95" name="直接连接符 22548"/>
              <p:cNvSpPr/>
              <p:nvPr/>
            </p:nvSpPr>
            <p:spPr>
              <a:xfrm>
                <a:off x="1912680" y="18936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696" name="文本框 22549"/>
            <p:cNvSpPr/>
            <p:nvPr/>
          </p:nvSpPr>
          <p:spPr>
            <a:xfrm>
              <a:off x="1562040" y="1695240"/>
              <a:ext cx="34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697" name="组合 22550"/>
            <p:cNvGrpSpPr/>
            <p:nvPr/>
          </p:nvGrpSpPr>
          <p:grpSpPr>
            <a:xfrm>
              <a:off x="2816280" y="1474920"/>
              <a:ext cx="521640" cy="815040"/>
              <a:chOff x="2816280" y="1474920"/>
              <a:chExt cx="521640" cy="815040"/>
            </a:xfrm>
          </p:grpSpPr>
          <p:sp>
            <p:nvSpPr>
              <p:cNvPr id="698" name="文本框 22551"/>
              <p:cNvSpPr/>
              <p:nvPr/>
            </p:nvSpPr>
            <p:spPr>
              <a:xfrm>
                <a:off x="2833560" y="183024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99" name="文本框 22552"/>
              <p:cNvSpPr/>
              <p:nvPr/>
            </p:nvSpPr>
            <p:spPr>
              <a:xfrm>
                <a:off x="2838240" y="147492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00" name="直接连接符 22553"/>
              <p:cNvSpPr/>
              <p:nvPr/>
            </p:nvSpPr>
            <p:spPr>
              <a:xfrm>
                <a:off x="2816280" y="189360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701" name="组合 22554"/>
          <p:cNvGrpSpPr/>
          <p:nvPr/>
        </p:nvGrpSpPr>
        <p:grpSpPr>
          <a:xfrm>
            <a:off x="771480" y="2828880"/>
            <a:ext cx="5211000" cy="1257840"/>
            <a:chOff x="771480" y="2828880"/>
            <a:chExt cx="5211000" cy="1257840"/>
          </a:xfrm>
        </p:grpSpPr>
        <p:sp>
          <p:nvSpPr>
            <p:cNvPr id="702" name="Text Box 9"/>
            <p:cNvSpPr/>
            <p:nvPr/>
          </p:nvSpPr>
          <p:spPr>
            <a:xfrm>
              <a:off x="771480" y="3213000"/>
              <a:ext cx="12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703" name="组合 22556"/>
            <p:cNvGrpSpPr/>
            <p:nvPr/>
          </p:nvGrpSpPr>
          <p:grpSpPr>
            <a:xfrm>
              <a:off x="1428840" y="2828880"/>
              <a:ext cx="4553640" cy="1257840"/>
              <a:chOff x="1428840" y="2828880"/>
              <a:chExt cx="4553640" cy="1257840"/>
            </a:xfrm>
          </p:grpSpPr>
          <p:grpSp>
            <p:nvGrpSpPr>
              <p:cNvPr id="704" name="组合 22557"/>
              <p:cNvGrpSpPr/>
              <p:nvPr/>
            </p:nvGrpSpPr>
            <p:grpSpPr>
              <a:xfrm>
                <a:off x="1428840" y="3021120"/>
                <a:ext cx="4553640" cy="833760"/>
                <a:chOff x="1428840" y="3021120"/>
                <a:chExt cx="4553640" cy="833760"/>
              </a:xfrm>
            </p:grpSpPr>
            <p:grpSp>
              <p:nvGrpSpPr>
                <p:cNvPr id="705" name="组合 22558"/>
                <p:cNvGrpSpPr/>
                <p:nvPr/>
              </p:nvGrpSpPr>
              <p:grpSpPr>
                <a:xfrm>
                  <a:off x="1428840" y="3021120"/>
                  <a:ext cx="3807360" cy="833760"/>
                  <a:chOff x="1428840" y="3021120"/>
                  <a:chExt cx="3807360" cy="833760"/>
                </a:xfrm>
              </p:grpSpPr>
              <p:grpSp>
                <p:nvGrpSpPr>
                  <p:cNvPr id="706" name="组合 22559"/>
                  <p:cNvGrpSpPr/>
                  <p:nvPr/>
                </p:nvGrpSpPr>
                <p:grpSpPr>
                  <a:xfrm>
                    <a:off x="1428840" y="3027240"/>
                    <a:ext cx="3457440" cy="815040"/>
                    <a:chOff x="1428840" y="3027240"/>
                    <a:chExt cx="3457440" cy="815040"/>
                  </a:xfrm>
                </p:grpSpPr>
                <p:grpSp>
                  <p:nvGrpSpPr>
                    <p:cNvPr id="707" name="组合 22560"/>
                    <p:cNvGrpSpPr/>
                    <p:nvPr/>
                  </p:nvGrpSpPr>
                  <p:grpSpPr>
                    <a:xfrm>
                      <a:off x="1779480" y="3027240"/>
                      <a:ext cx="522360" cy="815040"/>
                      <a:chOff x="1779480" y="3027240"/>
                      <a:chExt cx="522360" cy="815040"/>
                    </a:xfrm>
                  </p:grpSpPr>
                  <p:sp>
                    <p:nvSpPr>
                      <p:cNvPr id="708" name="文本框 22561"/>
                      <p:cNvSpPr/>
                      <p:nvPr/>
                    </p:nvSpPr>
                    <p:spPr>
                      <a:xfrm>
                        <a:off x="1797120" y="3382560"/>
                        <a:ext cx="5047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5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709" name="文本框 22562"/>
                      <p:cNvSpPr/>
                      <p:nvPr/>
                    </p:nvSpPr>
                    <p:spPr>
                      <a:xfrm>
                        <a:off x="1801800" y="3027240"/>
                        <a:ext cx="3603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3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710" name="直接连接符 22563"/>
                      <p:cNvSpPr/>
                      <p:nvPr/>
                    </p:nvSpPr>
                    <p:spPr>
                      <a:xfrm>
                        <a:off x="1779480" y="3445560"/>
                        <a:ext cx="36036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11" name="文本框 22564"/>
                    <p:cNvSpPr/>
                    <p:nvPr/>
                  </p:nvSpPr>
                  <p:spPr>
                    <a:xfrm>
                      <a:off x="1428840" y="3247560"/>
                      <a:ext cx="345744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     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×</a:t>
                      </a: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（   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×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5</a:t>
                      </a: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）＝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grpSp>
                  <p:nvGrpSpPr>
                    <p:cNvPr id="712" name="组合 22565"/>
                    <p:cNvGrpSpPr/>
                    <p:nvPr/>
                  </p:nvGrpSpPr>
                  <p:grpSpPr>
                    <a:xfrm>
                      <a:off x="2683080" y="3027240"/>
                      <a:ext cx="521640" cy="815040"/>
                      <a:chOff x="2683080" y="3027240"/>
                      <a:chExt cx="521640" cy="815040"/>
                    </a:xfrm>
                  </p:grpSpPr>
                  <p:sp>
                    <p:nvSpPr>
                      <p:cNvPr id="713" name="文本框 22566"/>
                      <p:cNvSpPr/>
                      <p:nvPr/>
                    </p:nvSpPr>
                    <p:spPr>
                      <a:xfrm>
                        <a:off x="2700360" y="3382560"/>
                        <a:ext cx="5043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6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714" name="文本框 22567"/>
                      <p:cNvSpPr/>
                      <p:nvPr/>
                    </p:nvSpPr>
                    <p:spPr>
                      <a:xfrm>
                        <a:off x="2705040" y="3027240"/>
                        <a:ext cx="3600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1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715" name="直接连接符 22568"/>
                      <p:cNvSpPr/>
                      <p:nvPr/>
                    </p:nvSpPr>
                    <p:spPr>
                      <a:xfrm>
                        <a:off x="2683080" y="3445560"/>
                        <a:ext cx="36000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16" name="组合 22569"/>
                  <p:cNvGrpSpPr/>
                  <p:nvPr/>
                </p:nvGrpSpPr>
                <p:grpSpPr>
                  <a:xfrm>
                    <a:off x="3973320" y="3021120"/>
                    <a:ext cx="1262880" cy="833760"/>
                    <a:chOff x="3973320" y="3021120"/>
                    <a:chExt cx="1262880" cy="833760"/>
                  </a:xfrm>
                </p:grpSpPr>
                <p:sp>
                  <p:nvSpPr>
                    <p:cNvPr id="717" name="Text Box 8"/>
                    <p:cNvSpPr/>
                    <p:nvPr/>
                  </p:nvSpPr>
                  <p:spPr>
                    <a:xfrm>
                      <a:off x="4317120" y="3252600"/>
                      <a:ext cx="3380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宋体"/>
                        </a:rPr>
                        <a:t>×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grpSp>
                  <p:nvGrpSpPr>
                    <p:cNvPr id="718" name="组合 22571"/>
                    <p:cNvGrpSpPr/>
                    <p:nvPr/>
                  </p:nvGrpSpPr>
                  <p:grpSpPr>
                    <a:xfrm>
                      <a:off x="4703040" y="3021120"/>
                      <a:ext cx="533160" cy="815040"/>
                      <a:chOff x="4703040" y="3021120"/>
                      <a:chExt cx="533160" cy="815040"/>
                    </a:xfrm>
                  </p:grpSpPr>
                  <p:sp>
                    <p:nvSpPr>
                      <p:cNvPr id="719" name="文本框 22572"/>
                      <p:cNvSpPr/>
                      <p:nvPr/>
                    </p:nvSpPr>
                    <p:spPr>
                      <a:xfrm>
                        <a:off x="4731480" y="3376440"/>
                        <a:ext cx="5047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6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720" name="文本框 22573"/>
                      <p:cNvSpPr/>
                      <p:nvPr/>
                    </p:nvSpPr>
                    <p:spPr>
                      <a:xfrm>
                        <a:off x="4715640" y="3021120"/>
                        <a:ext cx="3603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5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721" name="直接连接符 22574"/>
                      <p:cNvSpPr/>
                      <p:nvPr/>
                    </p:nvSpPr>
                    <p:spPr>
                      <a:xfrm>
                        <a:off x="4703040" y="3439800"/>
                        <a:ext cx="36036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2" name="组合 22575"/>
                    <p:cNvGrpSpPr/>
                    <p:nvPr/>
                  </p:nvGrpSpPr>
                  <p:grpSpPr>
                    <a:xfrm>
                      <a:off x="3973320" y="3039840"/>
                      <a:ext cx="523080" cy="815040"/>
                      <a:chOff x="3973320" y="3039840"/>
                      <a:chExt cx="523080" cy="815040"/>
                    </a:xfrm>
                  </p:grpSpPr>
                  <p:sp>
                    <p:nvSpPr>
                      <p:cNvPr id="723" name="文本框 22576"/>
                      <p:cNvSpPr/>
                      <p:nvPr/>
                    </p:nvSpPr>
                    <p:spPr>
                      <a:xfrm>
                        <a:off x="3992040" y="3395160"/>
                        <a:ext cx="5043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5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724" name="文本框 22577"/>
                      <p:cNvSpPr/>
                      <p:nvPr/>
                    </p:nvSpPr>
                    <p:spPr>
                      <a:xfrm>
                        <a:off x="3995280" y="3039840"/>
                        <a:ext cx="3600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3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725" name="直接连接符 22578"/>
                      <p:cNvSpPr/>
                      <p:nvPr/>
                    </p:nvSpPr>
                    <p:spPr>
                      <a:xfrm>
                        <a:off x="3973320" y="3458520"/>
                        <a:ext cx="36000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726" name="文本框 22579"/>
                <p:cNvSpPr/>
                <p:nvPr/>
              </p:nvSpPr>
              <p:spPr>
                <a:xfrm>
                  <a:off x="5025960" y="3236760"/>
                  <a:ext cx="504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727" name="组合 22580"/>
                <p:cNvGrpSpPr/>
                <p:nvPr/>
              </p:nvGrpSpPr>
              <p:grpSpPr>
                <a:xfrm>
                  <a:off x="5460840" y="3021120"/>
                  <a:ext cx="521640" cy="815040"/>
                  <a:chOff x="5460840" y="3021120"/>
                  <a:chExt cx="521640" cy="815040"/>
                </a:xfrm>
              </p:grpSpPr>
              <p:sp>
                <p:nvSpPr>
                  <p:cNvPr id="728" name="文本框 22581"/>
                  <p:cNvSpPr/>
                  <p:nvPr/>
                </p:nvSpPr>
                <p:spPr>
                  <a:xfrm>
                    <a:off x="5478120" y="337644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29" name="文本框 22582"/>
                  <p:cNvSpPr/>
                  <p:nvPr/>
                </p:nvSpPr>
                <p:spPr>
                  <a:xfrm>
                    <a:off x="5482800" y="302112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30" name="直接连接符 22583"/>
                  <p:cNvSpPr/>
                  <p:nvPr/>
                </p:nvSpPr>
                <p:spPr>
                  <a:xfrm>
                    <a:off x="5460840" y="343980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sp>
            <p:nvSpPr>
              <p:cNvPr id="731" name="直接连接符 22584"/>
              <p:cNvSpPr/>
              <p:nvPr/>
            </p:nvSpPr>
            <p:spPr>
              <a:xfrm>
                <a:off x="4057560" y="3213000"/>
                <a:ext cx="217440" cy="14472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32" name="直接连接符 22585"/>
              <p:cNvSpPr/>
              <p:nvPr/>
            </p:nvSpPr>
            <p:spPr>
              <a:xfrm>
                <a:off x="4048200" y="3578400"/>
                <a:ext cx="217440" cy="14436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33" name="直接连接符 22586"/>
              <p:cNvSpPr/>
              <p:nvPr/>
            </p:nvSpPr>
            <p:spPr>
              <a:xfrm>
                <a:off x="4773600" y="3213000"/>
                <a:ext cx="217440" cy="14472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34" name="直接连接符 22587"/>
              <p:cNvSpPr/>
              <p:nvPr/>
            </p:nvSpPr>
            <p:spPr>
              <a:xfrm>
                <a:off x="4795920" y="3557520"/>
                <a:ext cx="217440" cy="14436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35" name="文本框 22588"/>
              <p:cNvSpPr/>
              <p:nvPr/>
            </p:nvSpPr>
            <p:spPr>
              <a:xfrm>
                <a:off x="3986280" y="284328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36" name="文本框 22589"/>
              <p:cNvSpPr/>
              <p:nvPr/>
            </p:nvSpPr>
            <p:spPr>
              <a:xfrm>
                <a:off x="4700520" y="282888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37" name="文本框 22590"/>
              <p:cNvSpPr/>
              <p:nvPr/>
            </p:nvSpPr>
            <p:spPr>
              <a:xfrm>
                <a:off x="3995640" y="36878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38" name="文本框 22591"/>
              <p:cNvSpPr/>
              <p:nvPr/>
            </p:nvSpPr>
            <p:spPr>
              <a:xfrm>
                <a:off x="4749840" y="36734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739" name="组合 22592"/>
          <p:cNvGrpSpPr/>
          <p:nvPr/>
        </p:nvGrpSpPr>
        <p:grpSpPr>
          <a:xfrm>
            <a:off x="744480" y="4675320"/>
            <a:ext cx="7232760" cy="1043280"/>
            <a:chOff x="744480" y="4675320"/>
            <a:chExt cx="7232760" cy="1043280"/>
          </a:xfrm>
        </p:grpSpPr>
        <p:sp>
          <p:nvSpPr>
            <p:cNvPr id="740" name="Text Box 9"/>
            <p:cNvSpPr/>
            <p:nvPr/>
          </p:nvSpPr>
          <p:spPr>
            <a:xfrm>
              <a:off x="744480" y="4892760"/>
              <a:ext cx="12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741" name="组合 22594"/>
            <p:cNvGrpSpPr/>
            <p:nvPr/>
          </p:nvGrpSpPr>
          <p:grpSpPr>
            <a:xfrm>
              <a:off x="1401840" y="4675320"/>
              <a:ext cx="6575400" cy="1043280"/>
              <a:chOff x="1401840" y="4675320"/>
              <a:chExt cx="6575400" cy="1043280"/>
            </a:xfrm>
          </p:grpSpPr>
          <p:grpSp>
            <p:nvGrpSpPr>
              <p:cNvPr id="742" name="组合 22595"/>
              <p:cNvGrpSpPr/>
              <p:nvPr/>
            </p:nvGrpSpPr>
            <p:grpSpPr>
              <a:xfrm>
                <a:off x="3767040" y="4691160"/>
                <a:ext cx="3457440" cy="828000"/>
                <a:chOff x="3767040" y="4691160"/>
                <a:chExt cx="3457440" cy="828000"/>
              </a:xfrm>
            </p:grpSpPr>
            <p:sp>
              <p:nvSpPr>
                <p:cNvPr id="743" name="文本框 22596"/>
                <p:cNvSpPr/>
                <p:nvPr/>
              </p:nvSpPr>
              <p:spPr>
                <a:xfrm>
                  <a:off x="3767040" y="4924440"/>
                  <a:ext cx="3457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（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）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   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744" name="组合 22597"/>
                <p:cNvGrpSpPr/>
                <p:nvPr/>
              </p:nvGrpSpPr>
              <p:grpSpPr>
                <a:xfrm>
                  <a:off x="4117680" y="4703760"/>
                  <a:ext cx="522360" cy="815400"/>
                  <a:chOff x="4117680" y="4703760"/>
                  <a:chExt cx="522360" cy="815400"/>
                </a:xfrm>
              </p:grpSpPr>
              <p:sp>
                <p:nvSpPr>
                  <p:cNvPr id="745" name="文本框 22598"/>
                  <p:cNvSpPr/>
                  <p:nvPr/>
                </p:nvSpPr>
                <p:spPr>
                  <a:xfrm>
                    <a:off x="4135320" y="505944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46" name="文本框 22599"/>
                  <p:cNvSpPr/>
                  <p:nvPr/>
                </p:nvSpPr>
                <p:spPr>
                  <a:xfrm>
                    <a:off x="4140000" y="470376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47" name="直接连接符 22600"/>
                  <p:cNvSpPr/>
                  <p:nvPr/>
                </p:nvSpPr>
                <p:spPr>
                  <a:xfrm>
                    <a:off x="4117680" y="512280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748" name="组合 22601"/>
                <p:cNvGrpSpPr/>
                <p:nvPr/>
              </p:nvGrpSpPr>
              <p:grpSpPr>
                <a:xfrm>
                  <a:off x="5457600" y="4691160"/>
                  <a:ext cx="522360" cy="815040"/>
                  <a:chOff x="5457600" y="4691160"/>
                  <a:chExt cx="522360" cy="815040"/>
                </a:xfrm>
              </p:grpSpPr>
              <p:sp>
                <p:nvSpPr>
                  <p:cNvPr id="749" name="文本框 22602"/>
                  <p:cNvSpPr/>
                  <p:nvPr/>
                </p:nvSpPr>
                <p:spPr>
                  <a:xfrm>
                    <a:off x="5475240" y="504648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6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50" name="文本框 22603"/>
                  <p:cNvSpPr/>
                  <p:nvPr/>
                </p:nvSpPr>
                <p:spPr>
                  <a:xfrm>
                    <a:off x="5479920" y="469116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51" name="直接连接符 22604"/>
                  <p:cNvSpPr/>
                  <p:nvPr/>
                </p:nvSpPr>
                <p:spPr>
                  <a:xfrm>
                    <a:off x="5457600" y="510984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sp>
            <p:nvSpPr>
              <p:cNvPr id="752" name="文本框 22605"/>
              <p:cNvSpPr/>
              <p:nvPr/>
            </p:nvSpPr>
            <p:spPr>
              <a:xfrm>
                <a:off x="7067520" y="489096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753" name="组合 22606"/>
              <p:cNvGrpSpPr/>
              <p:nvPr/>
            </p:nvGrpSpPr>
            <p:grpSpPr>
              <a:xfrm>
                <a:off x="1401840" y="4675320"/>
                <a:ext cx="6575400" cy="1043280"/>
                <a:chOff x="1401840" y="4675320"/>
                <a:chExt cx="6575400" cy="1043280"/>
              </a:xfrm>
            </p:grpSpPr>
            <p:grpSp>
              <p:nvGrpSpPr>
                <p:cNvPr id="754" name="组合 22607"/>
                <p:cNvGrpSpPr/>
                <p:nvPr/>
              </p:nvGrpSpPr>
              <p:grpSpPr>
                <a:xfrm>
                  <a:off x="1401840" y="4707000"/>
                  <a:ext cx="3457440" cy="815400"/>
                  <a:chOff x="1401840" y="4707000"/>
                  <a:chExt cx="3457440" cy="815400"/>
                </a:xfrm>
              </p:grpSpPr>
              <p:grpSp>
                <p:nvGrpSpPr>
                  <p:cNvPr id="755" name="组合 22608"/>
                  <p:cNvGrpSpPr/>
                  <p:nvPr/>
                </p:nvGrpSpPr>
                <p:grpSpPr>
                  <a:xfrm>
                    <a:off x="1752480" y="4707000"/>
                    <a:ext cx="522360" cy="815400"/>
                    <a:chOff x="1752480" y="4707000"/>
                    <a:chExt cx="522360" cy="815400"/>
                  </a:xfrm>
                </p:grpSpPr>
                <p:sp>
                  <p:nvSpPr>
                    <p:cNvPr id="756" name="文本框 22609"/>
                    <p:cNvSpPr/>
                    <p:nvPr/>
                  </p:nvSpPr>
                  <p:spPr>
                    <a:xfrm>
                      <a:off x="1770120" y="5062680"/>
                      <a:ext cx="504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5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757" name="文本框 22610"/>
                    <p:cNvSpPr/>
                    <p:nvPr/>
                  </p:nvSpPr>
                  <p:spPr>
                    <a:xfrm>
                      <a:off x="1774800" y="4707000"/>
                      <a:ext cx="360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3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758" name="直接连接符 22611"/>
                    <p:cNvSpPr/>
                    <p:nvPr/>
                  </p:nvSpPr>
                  <p:spPr>
                    <a:xfrm>
                      <a:off x="1752480" y="5126040"/>
                      <a:ext cx="360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759" name="文本框 22612"/>
                  <p:cNvSpPr/>
                  <p:nvPr/>
                </p:nvSpPr>
                <p:spPr>
                  <a:xfrm>
                    <a:off x="1401840" y="4927680"/>
                    <a:ext cx="34574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     </a:t>
                    </a: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×</a:t>
                    </a: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（   </a:t>
                    </a: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×</a:t>
                    </a: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5</a:t>
                    </a: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）＝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grpSp>
                <p:nvGrpSpPr>
                  <p:cNvPr id="760" name="组合 22613"/>
                  <p:cNvGrpSpPr/>
                  <p:nvPr/>
                </p:nvGrpSpPr>
                <p:grpSpPr>
                  <a:xfrm>
                    <a:off x="2656080" y="4707000"/>
                    <a:ext cx="521640" cy="815400"/>
                    <a:chOff x="2656080" y="4707000"/>
                    <a:chExt cx="521640" cy="815400"/>
                  </a:xfrm>
                </p:grpSpPr>
                <p:sp>
                  <p:nvSpPr>
                    <p:cNvPr id="761" name="文本框 22614"/>
                    <p:cNvSpPr/>
                    <p:nvPr/>
                  </p:nvSpPr>
                  <p:spPr>
                    <a:xfrm>
                      <a:off x="2673360" y="5062680"/>
                      <a:ext cx="504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6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762" name="文本框 22615"/>
                    <p:cNvSpPr/>
                    <p:nvPr/>
                  </p:nvSpPr>
                  <p:spPr>
                    <a:xfrm>
                      <a:off x="2678040" y="4707000"/>
                      <a:ext cx="360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1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763" name="直接连接符 22616"/>
                    <p:cNvSpPr/>
                    <p:nvPr/>
                  </p:nvSpPr>
                  <p:spPr>
                    <a:xfrm>
                      <a:off x="2656080" y="5126040"/>
                      <a:ext cx="3600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64" name="组合 22617"/>
                <p:cNvGrpSpPr/>
                <p:nvPr/>
              </p:nvGrpSpPr>
              <p:grpSpPr>
                <a:xfrm>
                  <a:off x="7454880" y="4675320"/>
                  <a:ext cx="522360" cy="815040"/>
                  <a:chOff x="7454880" y="4675320"/>
                  <a:chExt cx="522360" cy="815040"/>
                </a:xfrm>
              </p:grpSpPr>
              <p:sp>
                <p:nvSpPr>
                  <p:cNvPr id="765" name="文本框 22618"/>
                  <p:cNvSpPr/>
                  <p:nvPr/>
                </p:nvSpPr>
                <p:spPr>
                  <a:xfrm>
                    <a:off x="7472520" y="503064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66" name="文本框 22619"/>
                  <p:cNvSpPr/>
                  <p:nvPr/>
                </p:nvSpPr>
                <p:spPr>
                  <a:xfrm>
                    <a:off x="7477200" y="467532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67" name="直接连接符 22620"/>
                  <p:cNvSpPr/>
                  <p:nvPr/>
                </p:nvSpPr>
                <p:spPr>
                  <a:xfrm>
                    <a:off x="7454880" y="509400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768" name="直接连接符 22621"/>
                <p:cNvSpPr/>
                <p:nvPr/>
              </p:nvSpPr>
              <p:spPr>
                <a:xfrm>
                  <a:off x="4734000" y="5065560"/>
                  <a:ext cx="217440" cy="14472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69" name="直接连接符 22622"/>
                <p:cNvSpPr/>
                <p:nvPr/>
              </p:nvSpPr>
              <p:spPr>
                <a:xfrm>
                  <a:off x="4191120" y="5229360"/>
                  <a:ext cx="217440" cy="14436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70" name="文本框 22623"/>
                <p:cNvSpPr/>
                <p:nvPr/>
              </p:nvSpPr>
              <p:spPr>
                <a:xfrm>
                  <a:off x="4651200" y="4681440"/>
                  <a:ext cx="36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71" name="文本框 22624"/>
                <p:cNvSpPr/>
                <p:nvPr/>
              </p:nvSpPr>
              <p:spPr>
                <a:xfrm>
                  <a:off x="4138560" y="5319720"/>
                  <a:ext cx="36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772" name="组合 22625"/>
                <p:cNvGrpSpPr/>
                <p:nvPr/>
              </p:nvGrpSpPr>
              <p:grpSpPr>
                <a:xfrm>
                  <a:off x="6173640" y="4686480"/>
                  <a:ext cx="1095120" cy="815040"/>
                  <a:chOff x="6173640" y="4686480"/>
                  <a:chExt cx="1095120" cy="815040"/>
                </a:xfrm>
              </p:grpSpPr>
              <p:sp>
                <p:nvSpPr>
                  <p:cNvPr id="773" name="Text Box 8"/>
                  <p:cNvSpPr/>
                  <p:nvPr/>
                </p:nvSpPr>
                <p:spPr>
                  <a:xfrm>
                    <a:off x="6365880" y="4906800"/>
                    <a:ext cx="338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4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宋体"/>
                      </a:rPr>
                      <a:t>×</a:t>
                    </a:r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grpSp>
                <p:nvGrpSpPr>
                  <p:cNvPr id="774" name="组合 22627"/>
                  <p:cNvGrpSpPr/>
                  <p:nvPr/>
                </p:nvGrpSpPr>
                <p:grpSpPr>
                  <a:xfrm>
                    <a:off x="6173640" y="4686480"/>
                    <a:ext cx="1095120" cy="815040"/>
                    <a:chOff x="6173640" y="4686480"/>
                    <a:chExt cx="1095120" cy="815040"/>
                  </a:xfrm>
                </p:grpSpPr>
                <p:grpSp>
                  <p:nvGrpSpPr>
                    <p:cNvPr id="775" name="组合 22628"/>
                    <p:cNvGrpSpPr/>
                    <p:nvPr/>
                  </p:nvGrpSpPr>
                  <p:grpSpPr>
                    <a:xfrm>
                      <a:off x="6735600" y="4686480"/>
                      <a:ext cx="533160" cy="815040"/>
                      <a:chOff x="6735600" y="4686480"/>
                      <a:chExt cx="533160" cy="815040"/>
                    </a:xfrm>
                  </p:grpSpPr>
                  <p:sp>
                    <p:nvSpPr>
                      <p:cNvPr id="776" name="文本框 22629"/>
                      <p:cNvSpPr/>
                      <p:nvPr/>
                    </p:nvSpPr>
                    <p:spPr>
                      <a:xfrm>
                        <a:off x="6764040" y="5041800"/>
                        <a:ext cx="5047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6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777" name="文本框 22630"/>
                      <p:cNvSpPr/>
                      <p:nvPr/>
                    </p:nvSpPr>
                    <p:spPr>
                      <a:xfrm>
                        <a:off x="6748200" y="4686480"/>
                        <a:ext cx="3603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1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778" name="直接连接符 22631"/>
                      <p:cNvSpPr/>
                      <p:nvPr/>
                    </p:nvSpPr>
                    <p:spPr>
                      <a:xfrm>
                        <a:off x="6735600" y="5105160"/>
                        <a:ext cx="36036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79" name="文本框 22632"/>
                    <p:cNvSpPr/>
                    <p:nvPr/>
                  </p:nvSpPr>
                  <p:spPr>
                    <a:xfrm>
                      <a:off x="6173640" y="4929120"/>
                      <a:ext cx="5029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3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80" name="组合 22633"/>
                <p:cNvGrpSpPr/>
                <p:nvPr/>
              </p:nvGrpSpPr>
              <p:grpSpPr>
                <a:xfrm>
                  <a:off x="6149880" y="4681440"/>
                  <a:ext cx="993960" cy="1027800"/>
                  <a:chOff x="6149880" y="4681440"/>
                  <a:chExt cx="993960" cy="1027800"/>
                </a:xfrm>
              </p:grpSpPr>
              <p:sp>
                <p:nvSpPr>
                  <p:cNvPr id="781" name="直接连接符 22634"/>
                  <p:cNvSpPr/>
                  <p:nvPr/>
                </p:nvSpPr>
                <p:spPr>
                  <a:xfrm>
                    <a:off x="6251400" y="5056200"/>
                    <a:ext cx="217440" cy="144360"/>
                  </a:xfrm>
                  <a:prstGeom prst="line">
                    <a:avLst/>
                  </a:prstGeom>
                  <a:ln w="19080">
                    <a:solidFill>
                      <a:srgbClr val="66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82" name="文本框 22635"/>
                  <p:cNvSpPr/>
                  <p:nvPr/>
                </p:nvSpPr>
                <p:spPr>
                  <a:xfrm>
                    <a:off x="6149880" y="4681440"/>
                    <a:ext cx="3603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83" name="文本框 22636"/>
                  <p:cNvSpPr/>
                  <p:nvPr/>
                </p:nvSpPr>
                <p:spPr>
                  <a:xfrm>
                    <a:off x="6783480" y="5310360"/>
                    <a:ext cx="3603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84" name="直接连接符 22637"/>
                  <p:cNvSpPr/>
                  <p:nvPr/>
                </p:nvSpPr>
                <p:spPr>
                  <a:xfrm>
                    <a:off x="6819840" y="5229360"/>
                    <a:ext cx="217440" cy="144360"/>
                  </a:xfrm>
                  <a:prstGeom prst="line">
                    <a:avLst/>
                  </a:prstGeom>
                  <a:ln w="19080">
                    <a:solidFill>
                      <a:srgbClr val="66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</p:grp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运用定律 简便计算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1"/>
          <p:cNvSpPr/>
          <p:nvPr/>
        </p:nvSpPr>
        <p:spPr>
          <a:xfrm>
            <a:off x="550800" y="5091120"/>
            <a:ext cx="6551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观察以上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种方法，你喜欢哪种方法？说说你的想法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7" name="Text Box 17"/>
          <p:cNvSpPr/>
          <p:nvPr/>
        </p:nvSpPr>
        <p:spPr>
          <a:xfrm>
            <a:off x="546120" y="4292640"/>
            <a:ext cx="94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研讨问题：你是怎样想的？（同级运算去掉括号，一次约分计算简便。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88" name="组合 23556"/>
          <p:cNvGrpSpPr/>
          <p:nvPr/>
        </p:nvGrpSpPr>
        <p:grpSpPr>
          <a:xfrm>
            <a:off x="1562040" y="1474920"/>
            <a:ext cx="3457440" cy="815040"/>
            <a:chOff x="1562040" y="1474920"/>
            <a:chExt cx="3457440" cy="815040"/>
          </a:xfrm>
        </p:grpSpPr>
        <p:grpSp>
          <p:nvGrpSpPr>
            <p:cNvPr id="789" name="组合 23557"/>
            <p:cNvGrpSpPr/>
            <p:nvPr/>
          </p:nvGrpSpPr>
          <p:grpSpPr>
            <a:xfrm>
              <a:off x="1912680" y="1474920"/>
              <a:ext cx="522360" cy="815040"/>
              <a:chOff x="1912680" y="1474920"/>
              <a:chExt cx="522360" cy="815040"/>
            </a:xfrm>
          </p:grpSpPr>
          <p:sp>
            <p:nvSpPr>
              <p:cNvPr id="790" name="文本框 23558"/>
              <p:cNvSpPr/>
              <p:nvPr/>
            </p:nvSpPr>
            <p:spPr>
              <a:xfrm>
                <a:off x="1930320" y="18302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91" name="文本框 23559"/>
              <p:cNvSpPr/>
              <p:nvPr/>
            </p:nvSpPr>
            <p:spPr>
              <a:xfrm>
                <a:off x="1935000" y="14749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92" name="直接连接符 23560"/>
              <p:cNvSpPr/>
              <p:nvPr/>
            </p:nvSpPr>
            <p:spPr>
              <a:xfrm>
                <a:off x="1912680" y="18936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793" name="文本框 23561"/>
            <p:cNvSpPr/>
            <p:nvPr/>
          </p:nvSpPr>
          <p:spPr>
            <a:xfrm>
              <a:off x="1562040" y="1695240"/>
              <a:ext cx="34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794" name="组合 23562"/>
            <p:cNvGrpSpPr/>
            <p:nvPr/>
          </p:nvGrpSpPr>
          <p:grpSpPr>
            <a:xfrm>
              <a:off x="2816280" y="1474920"/>
              <a:ext cx="521640" cy="815040"/>
              <a:chOff x="2816280" y="1474920"/>
              <a:chExt cx="521640" cy="815040"/>
            </a:xfrm>
          </p:grpSpPr>
          <p:sp>
            <p:nvSpPr>
              <p:cNvPr id="795" name="文本框 23563"/>
              <p:cNvSpPr/>
              <p:nvPr/>
            </p:nvSpPr>
            <p:spPr>
              <a:xfrm>
                <a:off x="2833560" y="183024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96" name="文本框 23564"/>
              <p:cNvSpPr/>
              <p:nvPr/>
            </p:nvSpPr>
            <p:spPr>
              <a:xfrm>
                <a:off x="2838240" y="147492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97" name="直接连接符 23565"/>
              <p:cNvSpPr/>
              <p:nvPr/>
            </p:nvSpPr>
            <p:spPr>
              <a:xfrm>
                <a:off x="2816280" y="189360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798" name="组合 23566"/>
          <p:cNvGrpSpPr/>
          <p:nvPr/>
        </p:nvGrpSpPr>
        <p:grpSpPr>
          <a:xfrm>
            <a:off x="552600" y="2565360"/>
            <a:ext cx="6379560" cy="1256040"/>
            <a:chOff x="552600" y="2565360"/>
            <a:chExt cx="6379560" cy="1256040"/>
          </a:xfrm>
        </p:grpSpPr>
        <p:sp>
          <p:nvSpPr>
            <p:cNvPr id="799" name="Text Box 9"/>
            <p:cNvSpPr/>
            <p:nvPr/>
          </p:nvSpPr>
          <p:spPr>
            <a:xfrm>
              <a:off x="552600" y="2979720"/>
              <a:ext cx="122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00" name="文本框 23568"/>
            <p:cNvSpPr/>
            <p:nvPr/>
          </p:nvSpPr>
          <p:spPr>
            <a:xfrm>
              <a:off x="5214960" y="2997360"/>
              <a:ext cx="51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801" name="组合 23569"/>
            <p:cNvGrpSpPr/>
            <p:nvPr/>
          </p:nvGrpSpPr>
          <p:grpSpPr>
            <a:xfrm>
              <a:off x="1209600" y="2793960"/>
              <a:ext cx="3457080" cy="815400"/>
              <a:chOff x="1209600" y="2793960"/>
              <a:chExt cx="3457080" cy="815400"/>
            </a:xfrm>
          </p:grpSpPr>
          <p:grpSp>
            <p:nvGrpSpPr>
              <p:cNvPr id="802" name="组合 23570"/>
              <p:cNvGrpSpPr/>
              <p:nvPr/>
            </p:nvGrpSpPr>
            <p:grpSpPr>
              <a:xfrm>
                <a:off x="1559880" y="2793960"/>
                <a:ext cx="521640" cy="815400"/>
                <a:chOff x="1559880" y="2793960"/>
                <a:chExt cx="521640" cy="815400"/>
              </a:xfrm>
            </p:grpSpPr>
            <p:sp>
              <p:nvSpPr>
                <p:cNvPr id="803" name="文本框 23571"/>
                <p:cNvSpPr/>
                <p:nvPr/>
              </p:nvSpPr>
              <p:spPr>
                <a:xfrm>
                  <a:off x="1577160" y="3149640"/>
                  <a:ext cx="504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04" name="文本框 23572"/>
                <p:cNvSpPr/>
                <p:nvPr/>
              </p:nvSpPr>
              <p:spPr>
                <a:xfrm>
                  <a:off x="1581840" y="279396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05" name="直接连接符 23573"/>
                <p:cNvSpPr/>
                <p:nvPr/>
              </p:nvSpPr>
              <p:spPr>
                <a:xfrm>
                  <a:off x="1559880" y="321300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806" name="文本框 23574"/>
              <p:cNvSpPr/>
              <p:nvPr/>
            </p:nvSpPr>
            <p:spPr>
              <a:xfrm>
                <a:off x="1209600" y="3014640"/>
                <a:ext cx="345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  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（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）＝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807" name="组合 23575"/>
              <p:cNvGrpSpPr/>
              <p:nvPr/>
            </p:nvGrpSpPr>
            <p:grpSpPr>
              <a:xfrm>
                <a:off x="2463480" y="2793960"/>
                <a:ext cx="521280" cy="815400"/>
                <a:chOff x="2463480" y="2793960"/>
                <a:chExt cx="521280" cy="815400"/>
              </a:xfrm>
            </p:grpSpPr>
            <p:sp>
              <p:nvSpPr>
                <p:cNvPr id="808" name="文本框 23576"/>
                <p:cNvSpPr/>
                <p:nvPr/>
              </p:nvSpPr>
              <p:spPr>
                <a:xfrm>
                  <a:off x="2480760" y="3149640"/>
                  <a:ext cx="504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6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09" name="文本框 23577"/>
                <p:cNvSpPr/>
                <p:nvPr/>
              </p:nvSpPr>
              <p:spPr>
                <a:xfrm>
                  <a:off x="2485440" y="2793960"/>
                  <a:ext cx="359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10" name="直接连接符 23578"/>
                <p:cNvSpPr/>
                <p:nvPr/>
              </p:nvSpPr>
              <p:spPr>
                <a:xfrm>
                  <a:off x="2463480" y="3213000"/>
                  <a:ext cx="359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grpSp>
          <p:nvGrpSpPr>
            <p:cNvPr id="811" name="组合 23579"/>
            <p:cNvGrpSpPr/>
            <p:nvPr/>
          </p:nvGrpSpPr>
          <p:grpSpPr>
            <a:xfrm>
              <a:off x="5602320" y="2781360"/>
              <a:ext cx="534240" cy="815400"/>
              <a:chOff x="5602320" y="2781360"/>
              <a:chExt cx="534240" cy="815400"/>
            </a:xfrm>
          </p:grpSpPr>
          <p:sp>
            <p:nvSpPr>
              <p:cNvPr id="812" name="文本框 23580"/>
              <p:cNvSpPr/>
              <p:nvPr/>
            </p:nvSpPr>
            <p:spPr>
              <a:xfrm>
                <a:off x="5620320" y="3137040"/>
                <a:ext cx="51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13" name="文本框 23581"/>
              <p:cNvSpPr/>
              <p:nvPr/>
            </p:nvSpPr>
            <p:spPr>
              <a:xfrm>
                <a:off x="5625000" y="2781360"/>
                <a:ext cx="368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14" name="直接连接符 23582"/>
              <p:cNvSpPr/>
              <p:nvPr/>
            </p:nvSpPr>
            <p:spPr>
              <a:xfrm>
                <a:off x="5602320" y="3200400"/>
                <a:ext cx="368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815" name="组合 23583"/>
            <p:cNvGrpSpPr/>
            <p:nvPr/>
          </p:nvGrpSpPr>
          <p:grpSpPr>
            <a:xfrm>
              <a:off x="3475080" y="2565360"/>
              <a:ext cx="3457080" cy="1256040"/>
              <a:chOff x="3475080" y="2565360"/>
              <a:chExt cx="3457080" cy="1256040"/>
            </a:xfrm>
          </p:grpSpPr>
          <p:grpSp>
            <p:nvGrpSpPr>
              <p:cNvPr id="816" name="组合 23584"/>
              <p:cNvGrpSpPr/>
              <p:nvPr/>
            </p:nvGrpSpPr>
            <p:grpSpPr>
              <a:xfrm>
                <a:off x="3475080" y="2565360"/>
                <a:ext cx="3457080" cy="1256040"/>
                <a:chOff x="3475080" y="2565360"/>
                <a:chExt cx="3457080" cy="1256040"/>
              </a:xfrm>
            </p:grpSpPr>
            <p:sp>
              <p:nvSpPr>
                <p:cNvPr id="817" name="文本框 23585"/>
                <p:cNvSpPr/>
                <p:nvPr/>
              </p:nvSpPr>
              <p:spPr>
                <a:xfrm>
                  <a:off x="3475080" y="3011400"/>
                  <a:ext cx="3457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  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818" name="组合 23586"/>
                <p:cNvGrpSpPr/>
                <p:nvPr/>
              </p:nvGrpSpPr>
              <p:grpSpPr>
                <a:xfrm>
                  <a:off x="4511160" y="2790720"/>
                  <a:ext cx="521640" cy="815400"/>
                  <a:chOff x="4511160" y="2790720"/>
                  <a:chExt cx="521640" cy="815400"/>
                </a:xfrm>
              </p:grpSpPr>
              <p:sp>
                <p:nvSpPr>
                  <p:cNvPr id="819" name="文本框 23587"/>
                  <p:cNvSpPr/>
                  <p:nvPr/>
                </p:nvSpPr>
                <p:spPr>
                  <a:xfrm>
                    <a:off x="4528440" y="314640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6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820" name="文本框 23588"/>
                  <p:cNvSpPr/>
                  <p:nvPr/>
                </p:nvSpPr>
                <p:spPr>
                  <a:xfrm>
                    <a:off x="4533120" y="279072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821" name="直接连接符 23589"/>
                  <p:cNvSpPr/>
                  <p:nvPr/>
                </p:nvSpPr>
                <p:spPr>
                  <a:xfrm>
                    <a:off x="4511160" y="320976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822" name="直接连接符 23590"/>
                <p:cNvSpPr/>
                <p:nvPr/>
              </p:nvSpPr>
              <p:spPr>
                <a:xfrm>
                  <a:off x="3863520" y="2905200"/>
                  <a:ext cx="288720" cy="21600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23" name="直接连接符 23591"/>
                <p:cNvSpPr/>
                <p:nvPr/>
              </p:nvSpPr>
              <p:spPr>
                <a:xfrm>
                  <a:off x="3863520" y="3265560"/>
                  <a:ext cx="288720" cy="21600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24" name="直接连接符 23592"/>
                <p:cNvSpPr/>
                <p:nvPr/>
              </p:nvSpPr>
              <p:spPr>
                <a:xfrm>
                  <a:off x="5034960" y="3083040"/>
                  <a:ext cx="288720" cy="21600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25" name="直接连接符 23593"/>
                <p:cNvSpPr/>
                <p:nvPr/>
              </p:nvSpPr>
              <p:spPr>
                <a:xfrm>
                  <a:off x="4574880" y="3308400"/>
                  <a:ext cx="288360" cy="21600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26" name="文本框 23594"/>
                <p:cNvSpPr/>
                <p:nvPr/>
              </p:nvSpPr>
              <p:spPr>
                <a:xfrm>
                  <a:off x="3830040" y="2565360"/>
                  <a:ext cx="360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27" name="文本框 23595"/>
                <p:cNvSpPr/>
                <p:nvPr/>
              </p:nvSpPr>
              <p:spPr>
                <a:xfrm>
                  <a:off x="3831840" y="3409920"/>
                  <a:ext cx="360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28" name="文本框 23596"/>
                <p:cNvSpPr/>
                <p:nvPr/>
              </p:nvSpPr>
              <p:spPr>
                <a:xfrm>
                  <a:off x="4546080" y="3422520"/>
                  <a:ext cx="360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29" name="文本框 23597"/>
                <p:cNvSpPr/>
                <p:nvPr/>
              </p:nvSpPr>
              <p:spPr>
                <a:xfrm>
                  <a:off x="5009760" y="2774880"/>
                  <a:ext cx="360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830" name="组合 23598"/>
              <p:cNvGrpSpPr/>
              <p:nvPr/>
            </p:nvGrpSpPr>
            <p:grpSpPr>
              <a:xfrm>
                <a:off x="3825360" y="2790720"/>
                <a:ext cx="521640" cy="815400"/>
                <a:chOff x="3825360" y="2790720"/>
                <a:chExt cx="521640" cy="815400"/>
              </a:xfrm>
            </p:grpSpPr>
            <p:sp>
              <p:nvSpPr>
                <p:cNvPr id="831" name="文本框 23599"/>
                <p:cNvSpPr/>
                <p:nvPr/>
              </p:nvSpPr>
              <p:spPr>
                <a:xfrm>
                  <a:off x="3842640" y="3146400"/>
                  <a:ext cx="504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32" name="文本框 23600"/>
                <p:cNvSpPr/>
                <p:nvPr/>
              </p:nvSpPr>
              <p:spPr>
                <a:xfrm>
                  <a:off x="3847320" y="279072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33" name="直接连接符 23601"/>
                <p:cNvSpPr/>
                <p:nvPr/>
              </p:nvSpPr>
              <p:spPr>
                <a:xfrm>
                  <a:off x="3825360" y="320976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运用定律 简便计算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3"/>
          <p:cNvSpPr/>
          <p:nvPr/>
        </p:nvSpPr>
        <p:spPr>
          <a:xfrm>
            <a:off x="547560" y="4459320"/>
            <a:ext cx="83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研讨问题：你运用了什么运算定律？（运用乘法分配律，计算简便。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6" name="Text Box 4"/>
          <p:cNvSpPr/>
          <p:nvPr/>
        </p:nvSpPr>
        <p:spPr>
          <a:xfrm>
            <a:off x="539640" y="5661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结：整数乘法的交换律、结合律和分配律，对于分数乘法也适用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应用乘法的运算定律，可以使一些计算简便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7" name="Text Box 6"/>
          <p:cNvSpPr/>
          <p:nvPr/>
        </p:nvSpPr>
        <p:spPr>
          <a:xfrm>
            <a:off x="560520" y="3108240"/>
            <a:ext cx="77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研讨问题：你是怎样想的？（先做小括号里的，再做括号外的。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8" name="Text Box 7"/>
          <p:cNvSpPr/>
          <p:nvPr/>
        </p:nvSpPr>
        <p:spPr>
          <a:xfrm>
            <a:off x="539640" y="5013360"/>
            <a:ext cx="6696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观察这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种计算方法，你喜欢哪种方法？说说你的想法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839" name="组合 24582"/>
          <p:cNvGrpSpPr/>
          <p:nvPr/>
        </p:nvGrpSpPr>
        <p:grpSpPr>
          <a:xfrm>
            <a:off x="1563840" y="1468440"/>
            <a:ext cx="2573280" cy="824760"/>
            <a:chOff x="1563840" y="1468440"/>
            <a:chExt cx="2573280" cy="824760"/>
          </a:xfrm>
        </p:grpSpPr>
        <p:grpSp>
          <p:nvGrpSpPr>
            <p:cNvPr id="840" name="组合 24583"/>
            <p:cNvGrpSpPr/>
            <p:nvPr/>
          </p:nvGrpSpPr>
          <p:grpSpPr>
            <a:xfrm>
              <a:off x="1914480" y="1468440"/>
              <a:ext cx="522360" cy="815040"/>
              <a:chOff x="1914480" y="1468440"/>
              <a:chExt cx="522360" cy="815040"/>
            </a:xfrm>
          </p:grpSpPr>
          <p:sp>
            <p:nvSpPr>
              <p:cNvPr id="841" name="文本框 24584"/>
              <p:cNvSpPr/>
              <p:nvPr/>
            </p:nvSpPr>
            <p:spPr>
              <a:xfrm>
                <a:off x="1932120" y="18237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42" name="文本框 24585"/>
              <p:cNvSpPr/>
              <p:nvPr/>
            </p:nvSpPr>
            <p:spPr>
              <a:xfrm>
                <a:off x="1936800" y="1468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43" name="直接连接符 24586"/>
              <p:cNvSpPr/>
              <p:nvPr/>
            </p:nvSpPr>
            <p:spPr>
              <a:xfrm>
                <a:off x="1914480" y="18871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844" name="文本框 24587"/>
            <p:cNvSpPr/>
            <p:nvPr/>
          </p:nvSpPr>
          <p:spPr>
            <a:xfrm>
              <a:off x="1563840" y="1689120"/>
              <a:ext cx="257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   ＋   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845" name="组合 24588"/>
            <p:cNvGrpSpPr/>
            <p:nvPr/>
          </p:nvGrpSpPr>
          <p:grpSpPr>
            <a:xfrm>
              <a:off x="2590920" y="1477800"/>
              <a:ext cx="521640" cy="815400"/>
              <a:chOff x="2590920" y="1477800"/>
              <a:chExt cx="521640" cy="815400"/>
            </a:xfrm>
          </p:grpSpPr>
          <p:sp>
            <p:nvSpPr>
              <p:cNvPr id="846" name="文本框 24589"/>
              <p:cNvSpPr/>
              <p:nvPr/>
            </p:nvSpPr>
            <p:spPr>
              <a:xfrm>
                <a:off x="2608200" y="183348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47" name="文本框 24590"/>
              <p:cNvSpPr/>
              <p:nvPr/>
            </p:nvSpPr>
            <p:spPr>
              <a:xfrm>
                <a:off x="2612880" y="147780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48" name="直接连接符 24591"/>
              <p:cNvSpPr/>
              <p:nvPr/>
            </p:nvSpPr>
            <p:spPr>
              <a:xfrm>
                <a:off x="2590920" y="189684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849" name="组合 24592"/>
          <p:cNvGrpSpPr/>
          <p:nvPr/>
        </p:nvGrpSpPr>
        <p:grpSpPr>
          <a:xfrm>
            <a:off x="571680" y="2205000"/>
            <a:ext cx="7459560" cy="1029240"/>
            <a:chOff x="571680" y="2205000"/>
            <a:chExt cx="7459560" cy="1029240"/>
          </a:xfrm>
        </p:grpSpPr>
        <p:grpSp>
          <p:nvGrpSpPr>
            <p:cNvPr id="850" name="组合 24593"/>
            <p:cNvGrpSpPr/>
            <p:nvPr/>
          </p:nvGrpSpPr>
          <p:grpSpPr>
            <a:xfrm>
              <a:off x="571680" y="2205000"/>
              <a:ext cx="7459560" cy="837360"/>
              <a:chOff x="571680" y="2205000"/>
              <a:chExt cx="7459560" cy="837360"/>
            </a:xfrm>
          </p:grpSpPr>
          <p:sp>
            <p:nvSpPr>
              <p:cNvPr id="851" name="Text Box 9"/>
              <p:cNvSpPr/>
              <p:nvPr/>
            </p:nvSpPr>
            <p:spPr>
              <a:xfrm>
                <a:off x="571680" y="241308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预设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：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852" name="组合 24595"/>
              <p:cNvGrpSpPr/>
              <p:nvPr/>
            </p:nvGrpSpPr>
            <p:grpSpPr>
              <a:xfrm>
                <a:off x="1406520" y="2205000"/>
                <a:ext cx="6624720" cy="837360"/>
                <a:chOff x="1406520" y="2205000"/>
                <a:chExt cx="6624720" cy="837360"/>
              </a:xfrm>
            </p:grpSpPr>
            <p:grpSp>
              <p:nvGrpSpPr>
                <p:cNvPr id="853" name="组合 24596"/>
                <p:cNvGrpSpPr/>
                <p:nvPr/>
              </p:nvGrpSpPr>
              <p:grpSpPr>
                <a:xfrm>
                  <a:off x="1406520" y="2205000"/>
                  <a:ext cx="4905360" cy="837360"/>
                  <a:chOff x="1406520" y="2205000"/>
                  <a:chExt cx="4905360" cy="837360"/>
                </a:xfrm>
              </p:grpSpPr>
              <p:sp>
                <p:nvSpPr>
                  <p:cNvPr id="854" name="文本框 24597"/>
                  <p:cNvSpPr/>
                  <p:nvPr/>
                </p:nvSpPr>
                <p:spPr>
                  <a:xfrm>
                    <a:off x="3738240" y="2438280"/>
                    <a:ext cx="2573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（   ＋   ）</a:t>
                    </a: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×</a:t>
                    </a: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grpSp>
                <p:nvGrpSpPr>
                  <p:cNvPr id="855" name="组合 24598"/>
                  <p:cNvGrpSpPr/>
                  <p:nvPr/>
                </p:nvGrpSpPr>
                <p:grpSpPr>
                  <a:xfrm>
                    <a:off x="1406520" y="2205000"/>
                    <a:ext cx="2573280" cy="824760"/>
                    <a:chOff x="1406520" y="2205000"/>
                    <a:chExt cx="2573280" cy="824760"/>
                  </a:xfrm>
                </p:grpSpPr>
                <p:grpSp>
                  <p:nvGrpSpPr>
                    <p:cNvPr id="856" name="组合 24599"/>
                    <p:cNvGrpSpPr/>
                    <p:nvPr/>
                  </p:nvGrpSpPr>
                  <p:grpSpPr>
                    <a:xfrm>
                      <a:off x="1757160" y="2205000"/>
                      <a:ext cx="522360" cy="815040"/>
                      <a:chOff x="1757160" y="2205000"/>
                      <a:chExt cx="522360" cy="815040"/>
                    </a:xfrm>
                  </p:grpSpPr>
                  <p:sp>
                    <p:nvSpPr>
                      <p:cNvPr id="857" name="文本框 24600"/>
                      <p:cNvSpPr/>
                      <p:nvPr/>
                    </p:nvSpPr>
                    <p:spPr>
                      <a:xfrm>
                        <a:off x="1774800" y="2560320"/>
                        <a:ext cx="5047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6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858" name="文本框 24601"/>
                      <p:cNvSpPr/>
                      <p:nvPr/>
                    </p:nvSpPr>
                    <p:spPr>
                      <a:xfrm>
                        <a:off x="1779480" y="2205000"/>
                        <a:ext cx="3603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5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859" name="直接连接符 24602"/>
                      <p:cNvSpPr/>
                      <p:nvPr/>
                    </p:nvSpPr>
                    <p:spPr>
                      <a:xfrm>
                        <a:off x="1757160" y="2623680"/>
                        <a:ext cx="36036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60" name="文本框 24603"/>
                    <p:cNvSpPr/>
                    <p:nvPr/>
                  </p:nvSpPr>
                  <p:spPr>
                    <a:xfrm>
                      <a:off x="1406520" y="2425680"/>
                      <a:ext cx="25732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（   ＋   ）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×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12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grpSp>
                  <p:nvGrpSpPr>
                    <p:cNvPr id="861" name="组合 24604"/>
                    <p:cNvGrpSpPr/>
                    <p:nvPr/>
                  </p:nvGrpSpPr>
                  <p:grpSpPr>
                    <a:xfrm>
                      <a:off x="2433600" y="2214360"/>
                      <a:ext cx="521640" cy="815400"/>
                      <a:chOff x="2433600" y="2214360"/>
                      <a:chExt cx="521640" cy="815400"/>
                    </a:xfrm>
                  </p:grpSpPr>
                  <p:sp>
                    <p:nvSpPr>
                      <p:cNvPr id="862" name="文本框 24605"/>
                      <p:cNvSpPr/>
                      <p:nvPr/>
                    </p:nvSpPr>
                    <p:spPr>
                      <a:xfrm>
                        <a:off x="2450880" y="2570040"/>
                        <a:ext cx="5043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4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863" name="文本框 24606"/>
                      <p:cNvSpPr/>
                      <p:nvPr/>
                    </p:nvSpPr>
                    <p:spPr>
                      <a:xfrm>
                        <a:off x="2455560" y="2214360"/>
                        <a:ext cx="3600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1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直接连接符 24607"/>
                      <p:cNvSpPr/>
                      <p:nvPr/>
                    </p:nvSpPr>
                    <p:spPr>
                      <a:xfrm>
                        <a:off x="2433600" y="2633400"/>
                        <a:ext cx="36000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865" name="文本框 24608"/>
                  <p:cNvSpPr/>
                  <p:nvPr/>
                </p:nvSpPr>
                <p:spPr>
                  <a:xfrm>
                    <a:off x="3528720" y="2421000"/>
                    <a:ext cx="505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＝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grpSp>
                <p:nvGrpSpPr>
                  <p:cNvPr id="866" name="组合 24609"/>
                  <p:cNvGrpSpPr/>
                  <p:nvPr/>
                </p:nvGrpSpPr>
                <p:grpSpPr>
                  <a:xfrm>
                    <a:off x="4017960" y="2217600"/>
                    <a:ext cx="534960" cy="815400"/>
                    <a:chOff x="4017960" y="2217600"/>
                    <a:chExt cx="534960" cy="815400"/>
                  </a:xfrm>
                </p:grpSpPr>
                <p:sp>
                  <p:nvSpPr>
                    <p:cNvPr id="867" name="文本框 24610"/>
                    <p:cNvSpPr/>
                    <p:nvPr/>
                  </p:nvSpPr>
                  <p:spPr>
                    <a:xfrm>
                      <a:off x="4039920" y="2573280"/>
                      <a:ext cx="5050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12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868" name="文本框 24611"/>
                    <p:cNvSpPr/>
                    <p:nvPr/>
                  </p:nvSpPr>
                  <p:spPr>
                    <a:xfrm>
                      <a:off x="4017960" y="2217600"/>
                      <a:ext cx="5349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10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869" name="直接连接符 24612"/>
                    <p:cNvSpPr/>
                    <p:nvPr/>
                  </p:nvSpPr>
                  <p:spPr>
                    <a:xfrm>
                      <a:off x="4089240" y="2636640"/>
                      <a:ext cx="360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0" name="组合 24613"/>
                  <p:cNvGrpSpPr/>
                  <p:nvPr/>
                </p:nvGrpSpPr>
                <p:grpSpPr>
                  <a:xfrm>
                    <a:off x="4698720" y="2227320"/>
                    <a:ext cx="505080" cy="815040"/>
                    <a:chOff x="4698720" y="2227320"/>
                    <a:chExt cx="505080" cy="815040"/>
                  </a:xfrm>
                </p:grpSpPr>
                <p:sp>
                  <p:nvSpPr>
                    <p:cNvPr id="871" name="文本框 24614"/>
                    <p:cNvSpPr/>
                    <p:nvPr/>
                  </p:nvSpPr>
                  <p:spPr>
                    <a:xfrm>
                      <a:off x="4698720" y="2582640"/>
                      <a:ext cx="5050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12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872" name="文本框 24615"/>
                    <p:cNvSpPr/>
                    <p:nvPr/>
                  </p:nvSpPr>
                  <p:spPr>
                    <a:xfrm>
                      <a:off x="4787640" y="2227320"/>
                      <a:ext cx="360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3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873" name="直接连接符 24616"/>
                    <p:cNvSpPr/>
                    <p:nvPr/>
                  </p:nvSpPr>
                  <p:spPr>
                    <a:xfrm>
                      <a:off x="4765680" y="2646360"/>
                      <a:ext cx="360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74" name="组合 24617"/>
                <p:cNvGrpSpPr/>
                <p:nvPr/>
              </p:nvGrpSpPr>
              <p:grpSpPr>
                <a:xfrm>
                  <a:off x="6216840" y="2205000"/>
                  <a:ext cx="534960" cy="815400"/>
                  <a:chOff x="6216840" y="2205000"/>
                  <a:chExt cx="534960" cy="815400"/>
                </a:xfrm>
              </p:grpSpPr>
              <p:sp>
                <p:nvSpPr>
                  <p:cNvPr id="875" name="文本框 24618"/>
                  <p:cNvSpPr/>
                  <p:nvPr/>
                </p:nvSpPr>
                <p:spPr>
                  <a:xfrm>
                    <a:off x="6238800" y="2560680"/>
                    <a:ext cx="505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876" name="文本框 24619"/>
                  <p:cNvSpPr/>
                  <p:nvPr/>
                </p:nvSpPr>
                <p:spPr>
                  <a:xfrm>
                    <a:off x="6216840" y="2205000"/>
                    <a:ext cx="5349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877" name="直接连接符 24620"/>
                  <p:cNvSpPr/>
                  <p:nvPr/>
                </p:nvSpPr>
                <p:spPr>
                  <a:xfrm>
                    <a:off x="6288120" y="262404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878" name="文本框 24621"/>
                <p:cNvSpPr/>
                <p:nvPr/>
              </p:nvSpPr>
              <p:spPr>
                <a:xfrm>
                  <a:off x="5851800" y="2436840"/>
                  <a:ext cx="2179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 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2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879" name="直接连接符 24622"/>
            <p:cNvSpPr/>
            <p:nvPr/>
          </p:nvSpPr>
          <p:spPr>
            <a:xfrm>
              <a:off x="6978960" y="2565360"/>
              <a:ext cx="288720" cy="144720"/>
            </a:xfrm>
            <a:prstGeom prst="line">
              <a:avLst/>
            </a:prstGeom>
            <a:ln w="1908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80" name="直接连接符 24623"/>
            <p:cNvSpPr/>
            <p:nvPr/>
          </p:nvSpPr>
          <p:spPr>
            <a:xfrm>
              <a:off x="6340680" y="2728800"/>
              <a:ext cx="288720" cy="144720"/>
            </a:xfrm>
            <a:prstGeom prst="line">
              <a:avLst/>
            </a:prstGeom>
            <a:ln w="1908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81" name="文本框 24624"/>
            <p:cNvSpPr/>
            <p:nvPr/>
          </p:nvSpPr>
          <p:spPr>
            <a:xfrm>
              <a:off x="6950160" y="22114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82" name="文本框 24625"/>
            <p:cNvSpPr/>
            <p:nvPr/>
          </p:nvSpPr>
          <p:spPr>
            <a:xfrm>
              <a:off x="6326280" y="283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883" name="组合 24626"/>
          <p:cNvGrpSpPr/>
          <p:nvPr/>
        </p:nvGrpSpPr>
        <p:grpSpPr>
          <a:xfrm>
            <a:off x="550800" y="3573360"/>
            <a:ext cx="7667280" cy="1046520"/>
            <a:chOff x="550800" y="3573360"/>
            <a:chExt cx="7667280" cy="1046520"/>
          </a:xfrm>
        </p:grpSpPr>
        <p:sp>
          <p:nvSpPr>
            <p:cNvPr id="884" name="文本框 24627"/>
            <p:cNvSpPr/>
            <p:nvPr/>
          </p:nvSpPr>
          <p:spPr>
            <a:xfrm>
              <a:off x="3516120" y="3789360"/>
              <a:ext cx="5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885" name="组合 24628"/>
            <p:cNvGrpSpPr/>
            <p:nvPr/>
          </p:nvGrpSpPr>
          <p:grpSpPr>
            <a:xfrm>
              <a:off x="550800" y="3573360"/>
              <a:ext cx="7667280" cy="1046520"/>
              <a:chOff x="550800" y="3573360"/>
              <a:chExt cx="7667280" cy="1046520"/>
            </a:xfrm>
          </p:grpSpPr>
          <p:grpSp>
            <p:nvGrpSpPr>
              <p:cNvPr id="886" name="组合 24629"/>
              <p:cNvGrpSpPr/>
              <p:nvPr/>
            </p:nvGrpSpPr>
            <p:grpSpPr>
              <a:xfrm>
                <a:off x="550800" y="3573360"/>
                <a:ext cx="7667280" cy="937080"/>
                <a:chOff x="550800" y="3573360"/>
                <a:chExt cx="7667280" cy="937080"/>
              </a:xfrm>
            </p:grpSpPr>
            <p:sp>
              <p:nvSpPr>
                <p:cNvPr id="887" name="Text Box 9"/>
                <p:cNvSpPr/>
                <p:nvPr/>
              </p:nvSpPr>
              <p:spPr>
                <a:xfrm>
                  <a:off x="550800" y="378144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预设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：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88" name="文本框 24631"/>
                <p:cNvSpPr/>
                <p:nvPr/>
              </p:nvSpPr>
              <p:spPr>
                <a:xfrm>
                  <a:off x="3717720" y="3806640"/>
                  <a:ext cx="257328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 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2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＋  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×1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889" name="组合 24632"/>
                <p:cNvGrpSpPr/>
                <p:nvPr/>
              </p:nvGrpSpPr>
              <p:grpSpPr>
                <a:xfrm>
                  <a:off x="1385640" y="3573360"/>
                  <a:ext cx="2573280" cy="824760"/>
                  <a:chOff x="1385640" y="3573360"/>
                  <a:chExt cx="2573280" cy="824760"/>
                </a:xfrm>
              </p:grpSpPr>
              <p:grpSp>
                <p:nvGrpSpPr>
                  <p:cNvPr id="890" name="组合 24633"/>
                  <p:cNvGrpSpPr/>
                  <p:nvPr/>
                </p:nvGrpSpPr>
                <p:grpSpPr>
                  <a:xfrm>
                    <a:off x="1736280" y="3573360"/>
                    <a:ext cx="522360" cy="815040"/>
                    <a:chOff x="1736280" y="3573360"/>
                    <a:chExt cx="522360" cy="815040"/>
                  </a:xfrm>
                </p:grpSpPr>
                <p:sp>
                  <p:nvSpPr>
                    <p:cNvPr id="891" name="文本框 24634"/>
                    <p:cNvSpPr/>
                    <p:nvPr/>
                  </p:nvSpPr>
                  <p:spPr>
                    <a:xfrm>
                      <a:off x="1753920" y="3928680"/>
                      <a:ext cx="504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6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892" name="文本框 24635"/>
                    <p:cNvSpPr/>
                    <p:nvPr/>
                  </p:nvSpPr>
                  <p:spPr>
                    <a:xfrm>
                      <a:off x="1758600" y="3573360"/>
                      <a:ext cx="360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5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893" name="直接连接符 24636"/>
                    <p:cNvSpPr/>
                    <p:nvPr/>
                  </p:nvSpPr>
                  <p:spPr>
                    <a:xfrm>
                      <a:off x="1736280" y="3992040"/>
                      <a:ext cx="360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894" name="文本框 24637"/>
                  <p:cNvSpPr/>
                  <p:nvPr/>
                </p:nvSpPr>
                <p:spPr>
                  <a:xfrm>
                    <a:off x="1385640" y="3794040"/>
                    <a:ext cx="25732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（   ＋   ）</a:t>
                    </a: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×</a:t>
                    </a: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grpSp>
                <p:nvGrpSpPr>
                  <p:cNvPr id="895" name="组合 24638"/>
                  <p:cNvGrpSpPr/>
                  <p:nvPr/>
                </p:nvGrpSpPr>
                <p:grpSpPr>
                  <a:xfrm>
                    <a:off x="2412720" y="3582720"/>
                    <a:ext cx="521640" cy="815400"/>
                    <a:chOff x="2412720" y="3582720"/>
                    <a:chExt cx="521640" cy="815400"/>
                  </a:xfrm>
                </p:grpSpPr>
                <p:sp>
                  <p:nvSpPr>
                    <p:cNvPr id="896" name="文本框 24639"/>
                    <p:cNvSpPr/>
                    <p:nvPr/>
                  </p:nvSpPr>
                  <p:spPr>
                    <a:xfrm>
                      <a:off x="2430000" y="3938400"/>
                      <a:ext cx="504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4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897" name="文本框 24640"/>
                    <p:cNvSpPr/>
                    <p:nvPr/>
                  </p:nvSpPr>
                  <p:spPr>
                    <a:xfrm>
                      <a:off x="2434680" y="3582720"/>
                      <a:ext cx="360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1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898" name="直接连接符 24641"/>
                    <p:cNvSpPr/>
                    <p:nvPr/>
                  </p:nvSpPr>
                  <p:spPr>
                    <a:xfrm>
                      <a:off x="2412720" y="4001760"/>
                      <a:ext cx="3600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99" name="文本框 24642"/>
                <p:cNvSpPr/>
                <p:nvPr/>
              </p:nvSpPr>
              <p:spPr>
                <a:xfrm>
                  <a:off x="6038640" y="3798720"/>
                  <a:ext cx="2179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0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＋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900" name="组合 24643"/>
                <p:cNvGrpSpPr/>
                <p:nvPr/>
              </p:nvGrpSpPr>
              <p:grpSpPr>
                <a:xfrm>
                  <a:off x="3897000" y="3582720"/>
                  <a:ext cx="522360" cy="815400"/>
                  <a:chOff x="3897000" y="3582720"/>
                  <a:chExt cx="522360" cy="815400"/>
                </a:xfrm>
              </p:grpSpPr>
              <p:sp>
                <p:nvSpPr>
                  <p:cNvPr id="901" name="文本框 24644"/>
                  <p:cNvSpPr/>
                  <p:nvPr/>
                </p:nvSpPr>
                <p:spPr>
                  <a:xfrm>
                    <a:off x="3914640" y="393840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6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902" name="文本框 24645"/>
                  <p:cNvSpPr/>
                  <p:nvPr/>
                </p:nvSpPr>
                <p:spPr>
                  <a:xfrm>
                    <a:off x="3919320" y="358272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903" name="直接连接符 24646"/>
                  <p:cNvSpPr/>
                  <p:nvPr/>
                </p:nvSpPr>
                <p:spPr>
                  <a:xfrm>
                    <a:off x="3897000" y="400176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904" name="组合 24647"/>
                <p:cNvGrpSpPr/>
                <p:nvPr/>
              </p:nvGrpSpPr>
              <p:grpSpPr>
                <a:xfrm>
                  <a:off x="5178240" y="3587760"/>
                  <a:ext cx="522360" cy="815040"/>
                  <a:chOff x="5178240" y="3587760"/>
                  <a:chExt cx="522360" cy="815040"/>
                </a:xfrm>
              </p:grpSpPr>
              <p:sp>
                <p:nvSpPr>
                  <p:cNvPr id="905" name="文本框 24648"/>
                  <p:cNvSpPr/>
                  <p:nvPr/>
                </p:nvSpPr>
                <p:spPr>
                  <a:xfrm>
                    <a:off x="5195880" y="394308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4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906" name="文本框 24649"/>
                  <p:cNvSpPr/>
                  <p:nvPr/>
                </p:nvSpPr>
                <p:spPr>
                  <a:xfrm>
                    <a:off x="5200560" y="358776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907" name="直接连接符 24650"/>
                  <p:cNvSpPr/>
                  <p:nvPr/>
                </p:nvSpPr>
                <p:spPr>
                  <a:xfrm>
                    <a:off x="5178240" y="400644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sp>
            <p:nvSpPr>
              <p:cNvPr id="908" name="直接连接符 24651"/>
              <p:cNvSpPr/>
              <p:nvPr/>
            </p:nvSpPr>
            <p:spPr>
              <a:xfrm>
                <a:off x="4584600" y="3933720"/>
                <a:ext cx="287280" cy="142920"/>
              </a:xfrm>
              <a:prstGeom prst="line">
                <a:avLst/>
              </a:prstGeom>
              <a:ln w="1908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09" name="直接连接符 24652"/>
              <p:cNvSpPr/>
              <p:nvPr/>
            </p:nvSpPr>
            <p:spPr>
              <a:xfrm>
                <a:off x="3935160" y="4120920"/>
                <a:ext cx="287280" cy="142920"/>
              </a:xfrm>
              <a:prstGeom prst="line">
                <a:avLst/>
              </a:prstGeom>
              <a:ln w="1908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10" name="直接连接符 24653"/>
              <p:cNvSpPr/>
              <p:nvPr/>
            </p:nvSpPr>
            <p:spPr>
              <a:xfrm>
                <a:off x="5808600" y="3933720"/>
                <a:ext cx="287280" cy="142920"/>
              </a:xfrm>
              <a:prstGeom prst="line">
                <a:avLst/>
              </a:prstGeom>
              <a:ln w="1908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11" name="直接连接符 24654"/>
              <p:cNvSpPr/>
              <p:nvPr/>
            </p:nvSpPr>
            <p:spPr>
              <a:xfrm>
                <a:off x="5222520" y="4130640"/>
                <a:ext cx="287640" cy="142920"/>
              </a:xfrm>
              <a:prstGeom prst="line">
                <a:avLst/>
              </a:prstGeom>
              <a:ln w="1908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12" name="文本框 24655"/>
              <p:cNvSpPr/>
              <p:nvPr/>
            </p:nvSpPr>
            <p:spPr>
              <a:xfrm>
                <a:off x="4574880" y="35780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13" name="文本框 24656"/>
              <p:cNvSpPr/>
              <p:nvPr/>
            </p:nvSpPr>
            <p:spPr>
              <a:xfrm>
                <a:off x="3925800" y="422100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14" name="文本框 24657"/>
              <p:cNvSpPr/>
              <p:nvPr/>
            </p:nvSpPr>
            <p:spPr>
              <a:xfrm>
                <a:off x="5783040" y="357336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15" name="文本框 24658"/>
              <p:cNvSpPr/>
              <p:nvPr/>
            </p:nvSpPr>
            <p:spPr>
              <a:xfrm>
                <a:off x="5232240" y="422100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巩固练习 提高认识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3"/>
          <p:cNvSpPr/>
          <p:nvPr/>
        </p:nvSpPr>
        <p:spPr>
          <a:xfrm>
            <a:off x="539640" y="1808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用简便方法计算下面各题，并说一说运用了什么运算定律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918" name="组合 25603"/>
          <p:cNvGrpSpPr/>
          <p:nvPr/>
        </p:nvGrpSpPr>
        <p:grpSpPr>
          <a:xfrm>
            <a:off x="1023840" y="2400480"/>
            <a:ext cx="3457800" cy="815040"/>
            <a:chOff x="1023840" y="2400480"/>
            <a:chExt cx="3457800" cy="815040"/>
          </a:xfrm>
        </p:grpSpPr>
        <p:grpSp>
          <p:nvGrpSpPr>
            <p:cNvPr id="919" name="组合 25604"/>
            <p:cNvGrpSpPr/>
            <p:nvPr/>
          </p:nvGrpSpPr>
          <p:grpSpPr>
            <a:xfrm>
              <a:off x="1374840" y="2400480"/>
              <a:ext cx="522360" cy="815040"/>
              <a:chOff x="1374840" y="2400480"/>
              <a:chExt cx="522360" cy="815040"/>
            </a:xfrm>
          </p:grpSpPr>
          <p:sp>
            <p:nvSpPr>
              <p:cNvPr id="920" name="文本框 25605"/>
              <p:cNvSpPr/>
              <p:nvPr/>
            </p:nvSpPr>
            <p:spPr>
              <a:xfrm>
                <a:off x="1392480" y="27558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21" name="文本框 25606"/>
              <p:cNvSpPr/>
              <p:nvPr/>
            </p:nvSpPr>
            <p:spPr>
              <a:xfrm>
                <a:off x="1397160" y="24004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22" name="直接连接符 25607"/>
              <p:cNvSpPr/>
              <p:nvPr/>
            </p:nvSpPr>
            <p:spPr>
              <a:xfrm>
                <a:off x="1374840" y="28191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923" name="文本框 25608"/>
            <p:cNvSpPr/>
            <p:nvPr/>
          </p:nvSpPr>
          <p:spPr>
            <a:xfrm>
              <a:off x="1023840" y="2620800"/>
              <a:ext cx="345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924" name="组合 25609"/>
            <p:cNvGrpSpPr/>
            <p:nvPr/>
          </p:nvGrpSpPr>
          <p:grpSpPr>
            <a:xfrm>
              <a:off x="2036880" y="2400480"/>
              <a:ext cx="522360" cy="815040"/>
              <a:chOff x="2036880" y="2400480"/>
              <a:chExt cx="522360" cy="815040"/>
            </a:xfrm>
          </p:grpSpPr>
          <p:sp>
            <p:nvSpPr>
              <p:cNvPr id="925" name="文本框 25610"/>
              <p:cNvSpPr/>
              <p:nvPr/>
            </p:nvSpPr>
            <p:spPr>
              <a:xfrm>
                <a:off x="2054520" y="27558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26" name="文本框 25611"/>
              <p:cNvSpPr/>
              <p:nvPr/>
            </p:nvSpPr>
            <p:spPr>
              <a:xfrm>
                <a:off x="2059200" y="24004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27" name="直接连接符 25612"/>
              <p:cNvSpPr/>
              <p:nvPr/>
            </p:nvSpPr>
            <p:spPr>
              <a:xfrm>
                <a:off x="2036880" y="28191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928" name="组合 25613"/>
          <p:cNvGrpSpPr/>
          <p:nvPr/>
        </p:nvGrpSpPr>
        <p:grpSpPr>
          <a:xfrm>
            <a:off x="3568680" y="2441520"/>
            <a:ext cx="2573280" cy="824760"/>
            <a:chOff x="3568680" y="2441520"/>
            <a:chExt cx="2573280" cy="824760"/>
          </a:xfrm>
        </p:grpSpPr>
        <p:sp>
          <p:nvSpPr>
            <p:cNvPr id="929" name="文本框 25614"/>
            <p:cNvSpPr/>
            <p:nvPr/>
          </p:nvSpPr>
          <p:spPr>
            <a:xfrm>
              <a:off x="3568680" y="2662200"/>
              <a:ext cx="257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   ＋   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930" name="组合 25615"/>
            <p:cNvGrpSpPr/>
            <p:nvPr/>
          </p:nvGrpSpPr>
          <p:grpSpPr>
            <a:xfrm>
              <a:off x="3919320" y="2441520"/>
              <a:ext cx="522360" cy="815040"/>
              <a:chOff x="3919320" y="2441520"/>
              <a:chExt cx="522360" cy="815040"/>
            </a:xfrm>
          </p:grpSpPr>
          <p:sp>
            <p:nvSpPr>
              <p:cNvPr id="931" name="文本框 25616"/>
              <p:cNvSpPr/>
              <p:nvPr/>
            </p:nvSpPr>
            <p:spPr>
              <a:xfrm>
                <a:off x="3936960" y="27968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32" name="文本框 25617"/>
              <p:cNvSpPr/>
              <p:nvPr/>
            </p:nvSpPr>
            <p:spPr>
              <a:xfrm>
                <a:off x="3941640" y="24415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33" name="直接连接符 25618"/>
              <p:cNvSpPr/>
              <p:nvPr/>
            </p:nvSpPr>
            <p:spPr>
              <a:xfrm>
                <a:off x="3919320" y="28602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934" name="文本框 25619"/>
            <p:cNvSpPr/>
            <p:nvPr/>
          </p:nvSpPr>
          <p:spPr>
            <a:xfrm>
              <a:off x="4541760" y="28065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35" name="文本框 25620"/>
            <p:cNvSpPr/>
            <p:nvPr/>
          </p:nvSpPr>
          <p:spPr>
            <a:xfrm>
              <a:off x="4617720" y="2450880"/>
              <a:ext cx="3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36" name="直接连接符 25621"/>
            <p:cNvSpPr/>
            <p:nvPr/>
          </p:nvSpPr>
          <p:spPr>
            <a:xfrm>
              <a:off x="4595760" y="28699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937" name="组合 25622"/>
          <p:cNvGrpSpPr/>
          <p:nvPr/>
        </p:nvGrpSpPr>
        <p:grpSpPr>
          <a:xfrm>
            <a:off x="6442200" y="2419200"/>
            <a:ext cx="2017080" cy="815400"/>
            <a:chOff x="6442200" y="2419200"/>
            <a:chExt cx="2017080" cy="815400"/>
          </a:xfrm>
        </p:grpSpPr>
        <p:sp>
          <p:nvSpPr>
            <p:cNvPr id="938" name="文本框 25623"/>
            <p:cNvSpPr/>
            <p:nvPr/>
          </p:nvSpPr>
          <p:spPr>
            <a:xfrm>
              <a:off x="6442200" y="2644560"/>
              <a:ext cx="165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6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39" name="文本框 25624"/>
            <p:cNvSpPr/>
            <p:nvPr/>
          </p:nvSpPr>
          <p:spPr>
            <a:xfrm>
              <a:off x="7954920" y="277488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40" name="文本框 25625"/>
            <p:cNvSpPr/>
            <p:nvPr/>
          </p:nvSpPr>
          <p:spPr>
            <a:xfrm>
              <a:off x="8015040" y="241920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41" name="直接连接符 25626"/>
            <p:cNvSpPr/>
            <p:nvPr/>
          </p:nvSpPr>
          <p:spPr>
            <a:xfrm>
              <a:off x="7993080" y="283824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942" name="组合 25627"/>
          <p:cNvGrpSpPr/>
          <p:nvPr/>
        </p:nvGrpSpPr>
        <p:grpSpPr>
          <a:xfrm>
            <a:off x="865080" y="3090960"/>
            <a:ext cx="3611160" cy="1986840"/>
            <a:chOff x="865080" y="3090960"/>
            <a:chExt cx="3611160" cy="1986840"/>
          </a:xfrm>
        </p:grpSpPr>
        <p:grpSp>
          <p:nvGrpSpPr>
            <p:cNvPr id="943" name="组合 25628"/>
            <p:cNvGrpSpPr/>
            <p:nvPr/>
          </p:nvGrpSpPr>
          <p:grpSpPr>
            <a:xfrm>
              <a:off x="1341000" y="4262400"/>
              <a:ext cx="521640" cy="815400"/>
              <a:chOff x="1341000" y="4262400"/>
              <a:chExt cx="521640" cy="815400"/>
            </a:xfrm>
          </p:grpSpPr>
          <p:sp>
            <p:nvSpPr>
              <p:cNvPr id="944" name="文本框 25629"/>
              <p:cNvSpPr/>
              <p:nvPr/>
            </p:nvSpPr>
            <p:spPr>
              <a:xfrm>
                <a:off x="1358280" y="461808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45" name="文本框 25630"/>
              <p:cNvSpPr/>
              <p:nvPr/>
            </p:nvSpPr>
            <p:spPr>
              <a:xfrm>
                <a:off x="1362960" y="426240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46" name="直接连接符 25631"/>
              <p:cNvSpPr/>
              <p:nvPr/>
            </p:nvSpPr>
            <p:spPr>
              <a:xfrm>
                <a:off x="1341000" y="468144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947" name="组合 25632"/>
            <p:cNvGrpSpPr/>
            <p:nvPr/>
          </p:nvGrpSpPr>
          <p:grpSpPr>
            <a:xfrm>
              <a:off x="1018800" y="3090960"/>
              <a:ext cx="3457440" cy="1254600"/>
              <a:chOff x="1018800" y="3090960"/>
              <a:chExt cx="3457440" cy="1254600"/>
            </a:xfrm>
          </p:grpSpPr>
          <p:grpSp>
            <p:nvGrpSpPr>
              <p:cNvPr id="948" name="组合 25633"/>
              <p:cNvGrpSpPr/>
              <p:nvPr/>
            </p:nvGrpSpPr>
            <p:grpSpPr>
              <a:xfrm>
                <a:off x="1018800" y="3306960"/>
                <a:ext cx="3457440" cy="815400"/>
                <a:chOff x="1018800" y="3306960"/>
                <a:chExt cx="3457440" cy="815400"/>
              </a:xfrm>
            </p:grpSpPr>
            <p:grpSp>
              <p:nvGrpSpPr>
                <p:cNvPr id="949" name="组合 25634"/>
                <p:cNvGrpSpPr/>
                <p:nvPr/>
              </p:nvGrpSpPr>
              <p:grpSpPr>
                <a:xfrm>
                  <a:off x="1369440" y="3306960"/>
                  <a:ext cx="521640" cy="815400"/>
                  <a:chOff x="1369440" y="3306960"/>
                  <a:chExt cx="521640" cy="815400"/>
                </a:xfrm>
              </p:grpSpPr>
              <p:sp>
                <p:nvSpPr>
                  <p:cNvPr id="950" name="文本框 25635"/>
                  <p:cNvSpPr/>
                  <p:nvPr/>
                </p:nvSpPr>
                <p:spPr>
                  <a:xfrm>
                    <a:off x="1386720" y="366264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951" name="文本框 25636"/>
                  <p:cNvSpPr/>
                  <p:nvPr/>
                </p:nvSpPr>
                <p:spPr>
                  <a:xfrm>
                    <a:off x="1391400" y="330696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952" name="直接连接符 25637"/>
                  <p:cNvSpPr/>
                  <p:nvPr/>
                </p:nvSpPr>
                <p:spPr>
                  <a:xfrm>
                    <a:off x="1369440" y="372600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953" name="文本框 25638"/>
                <p:cNvSpPr/>
                <p:nvPr/>
              </p:nvSpPr>
              <p:spPr>
                <a:xfrm>
                  <a:off x="1018800" y="3527640"/>
                  <a:ext cx="3457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  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954" name="组合 25639"/>
                <p:cNvGrpSpPr/>
                <p:nvPr/>
              </p:nvGrpSpPr>
              <p:grpSpPr>
                <a:xfrm>
                  <a:off x="2031480" y="3306960"/>
                  <a:ext cx="521640" cy="815400"/>
                  <a:chOff x="2031480" y="3306960"/>
                  <a:chExt cx="521640" cy="815400"/>
                </a:xfrm>
              </p:grpSpPr>
              <p:sp>
                <p:nvSpPr>
                  <p:cNvPr id="955" name="文本框 25640"/>
                  <p:cNvSpPr/>
                  <p:nvPr/>
                </p:nvSpPr>
                <p:spPr>
                  <a:xfrm>
                    <a:off x="2048760" y="366264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4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956" name="文本框 25641"/>
                  <p:cNvSpPr/>
                  <p:nvPr/>
                </p:nvSpPr>
                <p:spPr>
                  <a:xfrm>
                    <a:off x="2053440" y="330696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957" name="直接连接符 25642"/>
                  <p:cNvSpPr/>
                  <p:nvPr/>
                </p:nvSpPr>
                <p:spPr>
                  <a:xfrm>
                    <a:off x="2031480" y="372600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sp>
            <p:nvSpPr>
              <p:cNvPr id="958" name="直接连接符 25643"/>
              <p:cNvSpPr/>
              <p:nvPr/>
            </p:nvSpPr>
            <p:spPr>
              <a:xfrm>
                <a:off x="1450440" y="3854520"/>
                <a:ext cx="217080" cy="14436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59" name="直接连接符 25644"/>
              <p:cNvSpPr/>
              <p:nvPr/>
            </p:nvSpPr>
            <p:spPr>
              <a:xfrm>
                <a:off x="2647440" y="3657600"/>
                <a:ext cx="217080" cy="14472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60" name="直接连接符 25645"/>
              <p:cNvSpPr/>
              <p:nvPr/>
            </p:nvSpPr>
            <p:spPr>
              <a:xfrm>
                <a:off x="1450440" y="3486240"/>
                <a:ext cx="217080" cy="14436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61" name="直接连接符 25646"/>
              <p:cNvSpPr/>
              <p:nvPr/>
            </p:nvSpPr>
            <p:spPr>
              <a:xfrm>
                <a:off x="2109240" y="3864240"/>
                <a:ext cx="217080" cy="14436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62" name="文本框 25647"/>
              <p:cNvSpPr/>
              <p:nvPr/>
            </p:nvSpPr>
            <p:spPr>
              <a:xfrm>
                <a:off x="2565000" y="3270240"/>
                <a:ext cx="36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63" name="文本框 25648"/>
              <p:cNvSpPr/>
              <p:nvPr/>
            </p:nvSpPr>
            <p:spPr>
              <a:xfrm>
                <a:off x="1388520" y="3090960"/>
                <a:ext cx="36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64" name="文本框 25649"/>
              <p:cNvSpPr/>
              <p:nvPr/>
            </p:nvSpPr>
            <p:spPr>
              <a:xfrm>
                <a:off x="2064600" y="3940200"/>
                <a:ext cx="36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65" name="文本框 25650"/>
              <p:cNvSpPr/>
              <p:nvPr/>
            </p:nvSpPr>
            <p:spPr>
              <a:xfrm>
                <a:off x="1378800" y="3946680"/>
                <a:ext cx="36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966" name="文本框 25651"/>
            <p:cNvSpPr/>
            <p:nvPr/>
          </p:nvSpPr>
          <p:spPr>
            <a:xfrm>
              <a:off x="865080" y="354168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67" name="文本框 25652"/>
            <p:cNvSpPr/>
            <p:nvPr/>
          </p:nvSpPr>
          <p:spPr>
            <a:xfrm>
              <a:off x="890280" y="44784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968" name="组合 25653"/>
          <p:cNvGrpSpPr/>
          <p:nvPr/>
        </p:nvGrpSpPr>
        <p:grpSpPr>
          <a:xfrm>
            <a:off x="3324240" y="3270240"/>
            <a:ext cx="2955960" cy="1922760"/>
            <a:chOff x="3324240" y="3270240"/>
            <a:chExt cx="2955960" cy="1922760"/>
          </a:xfrm>
        </p:grpSpPr>
        <p:sp>
          <p:nvSpPr>
            <p:cNvPr id="969" name="文本框 25654"/>
            <p:cNvSpPr/>
            <p:nvPr/>
          </p:nvSpPr>
          <p:spPr>
            <a:xfrm>
              <a:off x="3348000" y="4184640"/>
              <a:ext cx="174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4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970" name="组合 25655"/>
            <p:cNvGrpSpPr/>
            <p:nvPr/>
          </p:nvGrpSpPr>
          <p:grpSpPr>
            <a:xfrm>
              <a:off x="3324240" y="3270240"/>
              <a:ext cx="2955960" cy="1089720"/>
              <a:chOff x="3324240" y="3270240"/>
              <a:chExt cx="2955960" cy="1089720"/>
            </a:xfrm>
          </p:grpSpPr>
          <p:grpSp>
            <p:nvGrpSpPr>
              <p:cNvPr id="971" name="组合 25656"/>
              <p:cNvGrpSpPr/>
              <p:nvPr/>
            </p:nvGrpSpPr>
            <p:grpSpPr>
              <a:xfrm>
                <a:off x="3324240" y="3292560"/>
                <a:ext cx="2955960" cy="815400"/>
                <a:chOff x="3324240" y="3292560"/>
                <a:chExt cx="2955960" cy="815400"/>
              </a:xfrm>
            </p:grpSpPr>
            <p:grpSp>
              <p:nvGrpSpPr>
                <p:cNvPr id="972" name="组合 25657"/>
                <p:cNvGrpSpPr/>
                <p:nvPr/>
              </p:nvGrpSpPr>
              <p:grpSpPr>
                <a:xfrm>
                  <a:off x="3706920" y="3292560"/>
                  <a:ext cx="2573280" cy="815400"/>
                  <a:chOff x="3706920" y="3292560"/>
                  <a:chExt cx="2573280" cy="815400"/>
                </a:xfrm>
              </p:grpSpPr>
              <p:grpSp>
                <p:nvGrpSpPr>
                  <p:cNvPr id="973" name="组合 25658"/>
                  <p:cNvGrpSpPr/>
                  <p:nvPr/>
                </p:nvGrpSpPr>
                <p:grpSpPr>
                  <a:xfrm>
                    <a:off x="3706920" y="3292560"/>
                    <a:ext cx="2573280" cy="815400"/>
                    <a:chOff x="3706920" y="3292560"/>
                    <a:chExt cx="2573280" cy="815400"/>
                  </a:xfrm>
                </p:grpSpPr>
                <p:sp>
                  <p:nvSpPr>
                    <p:cNvPr id="974" name="文本框 25659"/>
                    <p:cNvSpPr/>
                    <p:nvPr/>
                  </p:nvSpPr>
                  <p:spPr>
                    <a:xfrm>
                      <a:off x="3706920" y="3513240"/>
                      <a:ext cx="25732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   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×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27</a:t>
                      </a: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＋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grpSp>
                  <p:nvGrpSpPr>
                    <p:cNvPr id="975" name="组合 25660"/>
                    <p:cNvGrpSpPr/>
                    <p:nvPr/>
                  </p:nvGrpSpPr>
                  <p:grpSpPr>
                    <a:xfrm>
                      <a:off x="3780000" y="3292560"/>
                      <a:ext cx="522360" cy="815400"/>
                      <a:chOff x="3780000" y="3292560"/>
                      <a:chExt cx="522360" cy="815400"/>
                    </a:xfrm>
                  </p:grpSpPr>
                  <p:sp>
                    <p:nvSpPr>
                      <p:cNvPr id="976" name="文本框 25661"/>
                      <p:cNvSpPr/>
                      <p:nvPr/>
                    </p:nvSpPr>
                    <p:spPr>
                      <a:xfrm>
                        <a:off x="3797640" y="3648240"/>
                        <a:ext cx="5047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9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977" name="文本框 25662"/>
                      <p:cNvSpPr/>
                      <p:nvPr/>
                    </p:nvSpPr>
                    <p:spPr>
                      <a:xfrm>
                        <a:off x="3802320" y="3292560"/>
                        <a:ext cx="3603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8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978" name="直接连接符 25663"/>
                      <p:cNvSpPr/>
                      <p:nvPr/>
                    </p:nvSpPr>
                    <p:spPr>
                      <a:xfrm>
                        <a:off x="3780000" y="3711600"/>
                        <a:ext cx="36036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79" name="组合 25664"/>
                  <p:cNvGrpSpPr/>
                  <p:nvPr/>
                </p:nvGrpSpPr>
                <p:grpSpPr>
                  <a:xfrm>
                    <a:off x="4961160" y="3292560"/>
                    <a:ext cx="504720" cy="815040"/>
                    <a:chOff x="4961160" y="3292560"/>
                    <a:chExt cx="504720" cy="815040"/>
                  </a:xfrm>
                </p:grpSpPr>
                <p:sp>
                  <p:nvSpPr>
                    <p:cNvPr id="980" name="文本框 25665"/>
                    <p:cNvSpPr/>
                    <p:nvPr/>
                  </p:nvSpPr>
                  <p:spPr>
                    <a:xfrm>
                      <a:off x="4961160" y="3647880"/>
                      <a:ext cx="504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27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981" name="文本框 25666"/>
                    <p:cNvSpPr/>
                    <p:nvPr/>
                  </p:nvSpPr>
                  <p:spPr>
                    <a:xfrm>
                      <a:off x="5037120" y="3292560"/>
                      <a:ext cx="360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4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982" name="直接连接符 25667"/>
                    <p:cNvSpPr/>
                    <p:nvPr/>
                  </p:nvSpPr>
                  <p:spPr>
                    <a:xfrm>
                      <a:off x="5015160" y="3711600"/>
                      <a:ext cx="360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983" name="矩形 25668"/>
                  <p:cNvSpPr/>
                  <p:nvPr/>
                </p:nvSpPr>
                <p:spPr>
                  <a:xfrm>
                    <a:off x="5353560" y="3517920"/>
                    <a:ext cx="6163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×</a:t>
                    </a: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7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984" name="文本框 25669"/>
                <p:cNvSpPr/>
                <p:nvPr/>
              </p:nvSpPr>
              <p:spPr>
                <a:xfrm>
                  <a:off x="3324240" y="3517920"/>
                  <a:ext cx="50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985" name="直接连接符 25670"/>
              <p:cNvSpPr/>
              <p:nvPr/>
            </p:nvSpPr>
            <p:spPr>
              <a:xfrm>
                <a:off x="3851280" y="3773520"/>
                <a:ext cx="216000" cy="21600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86" name="直接连接符 25671"/>
              <p:cNvSpPr/>
              <p:nvPr/>
            </p:nvSpPr>
            <p:spPr>
              <a:xfrm>
                <a:off x="4465800" y="3610080"/>
                <a:ext cx="215640" cy="21600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87" name="直接连接符 25672"/>
              <p:cNvSpPr/>
              <p:nvPr/>
            </p:nvSpPr>
            <p:spPr>
              <a:xfrm>
                <a:off x="5076720" y="3783240"/>
                <a:ext cx="216000" cy="21564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88" name="直接连接符 25673"/>
              <p:cNvSpPr/>
              <p:nvPr/>
            </p:nvSpPr>
            <p:spPr>
              <a:xfrm>
                <a:off x="5670720" y="3619440"/>
                <a:ext cx="215640" cy="21600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89" name="文本框 25674"/>
              <p:cNvSpPr/>
              <p:nvPr/>
            </p:nvSpPr>
            <p:spPr>
              <a:xfrm>
                <a:off x="4427640" y="3270240"/>
                <a:ext cx="3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90" name="文本框 25675"/>
              <p:cNvSpPr/>
              <p:nvPr/>
            </p:nvSpPr>
            <p:spPr>
              <a:xfrm>
                <a:off x="3789360" y="3961080"/>
                <a:ext cx="3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91" name="文本框 25676"/>
              <p:cNvSpPr/>
              <p:nvPr/>
            </p:nvSpPr>
            <p:spPr>
              <a:xfrm>
                <a:off x="5019840" y="3936960"/>
                <a:ext cx="3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92" name="文本框 25677"/>
              <p:cNvSpPr/>
              <p:nvPr/>
            </p:nvSpPr>
            <p:spPr>
              <a:xfrm>
                <a:off x="5608800" y="3275280"/>
                <a:ext cx="3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993" name="组合 25678"/>
          <p:cNvGrpSpPr/>
          <p:nvPr/>
        </p:nvGrpSpPr>
        <p:grpSpPr>
          <a:xfrm>
            <a:off x="6227640" y="3178080"/>
            <a:ext cx="2519280" cy="2143800"/>
            <a:chOff x="6227640" y="3178080"/>
            <a:chExt cx="2519280" cy="2143800"/>
          </a:xfrm>
        </p:grpSpPr>
        <p:grpSp>
          <p:nvGrpSpPr>
            <p:cNvPr id="994" name="组合 25679"/>
            <p:cNvGrpSpPr/>
            <p:nvPr/>
          </p:nvGrpSpPr>
          <p:grpSpPr>
            <a:xfrm>
              <a:off x="6561000" y="3178080"/>
              <a:ext cx="2185920" cy="832680"/>
              <a:chOff x="6561000" y="3178080"/>
              <a:chExt cx="2185920" cy="832680"/>
            </a:xfrm>
          </p:grpSpPr>
          <p:sp>
            <p:nvSpPr>
              <p:cNvPr id="995" name="文本框 25680"/>
              <p:cNvSpPr/>
              <p:nvPr/>
            </p:nvSpPr>
            <p:spPr>
              <a:xfrm>
                <a:off x="6561000" y="3422520"/>
                <a:ext cx="21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 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6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996" name="组合 25681"/>
              <p:cNvGrpSpPr/>
              <p:nvPr/>
            </p:nvGrpSpPr>
            <p:grpSpPr>
              <a:xfrm>
                <a:off x="7046640" y="3195360"/>
                <a:ext cx="504720" cy="815400"/>
                <a:chOff x="7046640" y="3195360"/>
                <a:chExt cx="504720" cy="815400"/>
              </a:xfrm>
            </p:grpSpPr>
            <p:sp>
              <p:nvSpPr>
                <p:cNvPr id="997" name="文本框 25682"/>
                <p:cNvSpPr/>
                <p:nvPr/>
              </p:nvSpPr>
              <p:spPr>
                <a:xfrm>
                  <a:off x="7046640" y="35510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86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98" name="文本框 25683"/>
                <p:cNvSpPr/>
                <p:nvPr/>
              </p:nvSpPr>
              <p:spPr>
                <a:xfrm>
                  <a:off x="7107120" y="31953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99" name="直接连接符 25684"/>
                <p:cNvSpPr/>
                <p:nvPr/>
              </p:nvSpPr>
              <p:spPr>
                <a:xfrm>
                  <a:off x="7084800" y="36144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000" name="组合 25685"/>
              <p:cNvGrpSpPr/>
              <p:nvPr/>
            </p:nvGrpSpPr>
            <p:grpSpPr>
              <a:xfrm>
                <a:off x="8242200" y="3178080"/>
                <a:ext cx="504720" cy="815400"/>
                <a:chOff x="8242200" y="3178080"/>
                <a:chExt cx="504720" cy="815400"/>
              </a:xfrm>
            </p:grpSpPr>
            <p:sp>
              <p:nvSpPr>
                <p:cNvPr id="1001" name="文本框 25686"/>
                <p:cNvSpPr/>
                <p:nvPr/>
              </p:nvSpPr>
              <p:spPr>
                <a:xfrm>
                  <a:off x="8242200" y="35337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86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02" name="文本框 25687"/>
                <p:cNvSpPr/>
                <p:nvPr/>
              </p:nvSpPr>
              <p:spPr>
                <a:xfrm>
                  <a:off x="8302680" y="31780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03" name="直接连接符 25688"/>
                <p:cNvSpPr/>
                <p:nvPr/>
              </p:nvSpPr>
              <p:spPr>
                <a:xfrm>
                  <a:off x="8280360" y="35971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1004" name="文本框 25689"/>
            <p:cNvSpPr/>
            <p:nvPr/>
          </p:nvSpPr>
          <p:spPr>
            <a:xfrm>
              <a:off x="6227640" y="4060440"/>
              <a:ext cx="11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005" name="组合 25690"/>
            <p:cNvGrpSpPr/>
            <p:nvPr/>
          </p:nvGrpSpPr>
          <p:grpSpPr>
            <a:xfrm>
              <a:off x="6586560" y="3860640"/>
              <a:ext cx="504720" cy="815040"/>
              <a:chOff x="6586560" y="3860640"/>
              <a:chExt cx="504720" cy="815040"/>
            </a:xfrm>
          </p:grpSpPr>
          <p:sp>
            <p:nvSpPr>
              <p:cNvPr id="1006" name="文本框 25691"/>
              <p:cNvSpPr/>
              <p:nvPr/>
            </p:nvSpPr>
            <p:spPr>
              <a:xfrm>
                <a:off x="6586560" y="4215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007" name="文本框 25692"/>
              <p:cNvSpPr/>
              <p:nvPr/>
            </p:nvSpPr>
            <p:spPr>
              <a:xfrm>
                <a:off x="6646680" y="38606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008" name="直接连接符 25693"/>
              <p:cNvSpPr/>
              <p:nvPr/>
            </p:nvSpPr>
            <p:spPr>
              <a:xfrm>
                <a:off x="6624360" y="427968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009" name="文本框 25694"/>
            <p:cNvSpPr/>
            <p:nvPr/>
          </p:nvSpPr>
          <p:spPr>
            <a:xfrm>
              <a:off x="6923160" y="4070160"/>
              <a:ext cx="71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010" name="组合 25695"/>
            <p:cNvGrpSpPr/>
            <p:nvPr/>
          </p:nvGrpSpPr>
          <p:grpSpPr>
            <a:xfrm>
              <a:off x="6227640" y="4506480"/>
              <a:ext cx="1014480" cy="815400"/>
              <a:chOff x="6227640" y="4506480"/>
              <a:chExt cx="1014480" cy="815400"/>
            </a:xfrm>
          </p:grpSpPr>
          <p:sp>
            <p:nvSpPr>
              <p:cNvPr id="1011" name="文本框 25696"/>
              <p:cNvSpPr/>
              <p:nvPr/>
            </p:nvSpPr>
            <p:spPr>
              <a:xfrm>
                <a:off x="6227640" y="473832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012" name="组合 25697"/>
              <p:cNvGrpSpPr/>
              <p:nvPr/>
            </p:nvGrpSpPr>
            <p:grpSpPr>
              <a:xfrm>
                <a:off x="6737400" y="4506480"/>
                <a:ext cx="504720" cy="815400"/>
                <a:chOff x="6737400" y="4506480"/>
                <a:chExt cx="504720" cy="815400"/>
              </a:xfrm>
            </p:grpSpPr>
            <p:sp>
              <p:nvSpPr>
                <p:cNvPr id="1013" name="文本框 25698"/>
                <p:cNvSpPr/>
                <p:nvPr/>
              </p:nvSpPr>
              <p:spPr>
                <a:xfrm>
                  <a:off x="6737400" y="4862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86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14" name="文本框 25699"/>
                <p:cNvSpPr/>
                <p:nvPr/>
              </p:nvSpPr>
              <p:spPr>
                <a:xfrm>
                  <a:off x="6797520" y="450648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15" name="直接连接符 25700"/>
                <p:cNvSpPr/>
                <p:nvPr/>
              </p:nvSpPr>
              <p:spPr>
                <a:xfrm>
                  <a:off x="6775200" y="492588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1016" name="文本框 25701"/>
            <p:cNvSpPr/>
            <p:nvPr/>
          </p:nvSpPr>
          <p:spPr>
            <a:xfrm>
              <a:off x="6237360" y="3441600"/>
              <a:ext cx="35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巩固练习 提高认识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539640" y="1811160"/>
            <a:ext cx="82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奶牛场每头奶牛平均日产牛奶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t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头奶牛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0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天可产奶多少吨？             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019" name="组合 26627"/>
          <p:cNvGrpSpPr/>
          <p:nvPr/>
        </p:nvGrpSpPr>
        <p:grpSpPr>
          <a:xfrm>
            <a:off x="4302000" y="1595520"/>
            <a:ext cx="504720" cy="815400"/>
            <a:chOff x="4302000" y="1595520"/>
            <a:chExt cx="504720" cy="815400"/>
          </a:xfrm>
        </p:grpSpPr>
        <p:sp>
          <p:nvSpPr>
            <p:cNvPr id="1020" name="文本框 26628"/>
            <p:cNvSpPr/>
            <p:nvPr/>
          </p:nvSpPr>
          <p:spPr>
            <a:xfrm>
              <a:off x="4302000" y="1951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21" name="文本框 26629"/>
            <p:cNvSpPr/>
            <p:nvPr/>
          </p:nvSpPr>
          <p:spPr>
            <a:xfrm>
              <a:off x="4362480" y="1595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22" name="直接连接符 26630"/>
            <p:cNvSpPr/>
            <p:nvPr/>
          </p:nvSpPr>
          <p:spPr>
            <a:xfrm>
              <a:off x="4340160" y="20149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023" name="组合 26631"/>
          <p:cNvGrpSpPr/>
          <p:nvPr/>
        </p:nvGrpSpPr>
        <p:grpSpPr>
          <a:xfrm>
            <a:off x="2795760" y="2637000"/>
            <a:ext cx="3457440" cy="815040"/>
            <a:chOff x="2795760" y="2637000"/>
            <a:chExt cx="3457440" cy="815040"/>
          </a:xfrm>
        </p:grpSpPr>
        <p:sp>
          <p:nvSpPr>
            <p:cNvPr id="1024" name="文本框 26632"/>
            <p:cNvSpPr/>
            <p:nvPr/>
          </p:nvSpPr>
          <p:spPr>
            <a:xfrm>
              <a:off x="2795760" y="2857320"/>
              <a:ext cx="34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2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025" name="组合 26633"/>
            <p:cNvGrpSpPr/>
            <p:nvPr/>
          </p:nvGrpSpPr>
          <p:grpSpPr>
            <a:xfrm>
              <a:off x="3059280" y="2637000"/>
              <a:ext cx="504720" cy="815040"/>
              <a:chOff x="3059280" y="2637000"/>
              <a:chExt cx="504720" cy="815040"/>
            </a:xfrm>
          </p:grpSpPr>
          <p:sp>
            <p:nvSpPr>
              <p:cNvPr id="1026" name="文本框 26634"/>
              <p:cNvSpPr/>
              <p:nvPr/>
            </p:nvSpPr>
            <p:spPr>
              <a:xfrm>
                <a:off x="3059280" y="2992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027" name="文本框 26635"/>
              <p:cNvSpPr/>
              <p:nvPr/>
            </p:nvSpPr>
            <p:spPr>
              <a:xfrm>
                <a:off x="3119760" y="2637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028" name="直接连接符 26636"/>
              <p:cNvSpPr/>
              <p:nvPr/>
            </p:nvSpPr>
            <p:spPr>
              <a:xfrm>
                <a:off x="3097440" y="3056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029" name="组合 26637"/>
          <p:cNvGrpSpPr/>
          <p:nvPr/>
        </p:nvGrpSpPr>
        <p:grpSpPr>
          <a:xfrm>
            <a:off x="2676600" y="3471840"/>
            <a:ext cx="3584520" cy="1489320"/>
            <a:chOff x="2676600" y="3471840"/>
            <a:chExt cx="3584520" cy="1489320"/>
          </a:xfrm>
        </p:grpSpPr>
        <p:grpSp>
          <p:nvGrpSpPr>
            <p:cNvPr id="1030" name="组合 26638"/>
            <p:cNvGrpSpPr/>
            <p:nvPr/>
          </p:nvGrpSpPr>
          <p:grpSpPr>
            <a:xfrm>
              <a:off x="2676600" y="3471840"/>
              <a:ext cx="3584520" cy="1489320"/>
              <a:chOff x="2676600" y="3471840"/>
              <a:chExt cx="3584520" cy="1489320"/>
            </a:xfrm>
          </p:grpSpPr>
          <p:grpSp>
            <p:nvGrpSpPr>
              <p:cNvPr id="1031" name="组合 26639"/>
              <p:cNvGrpSpPr/>
              <p:nvPr/>
            </p:nvGrpSpPr>
            <p:grpSpPr>
              <a:xfrm>
                <a:off x="2676600" y="3471840"/>
                <a:ext cx="3584520" cy="1489320"/>
                <a:chOff x="2676600" y="3471840"/>
                <a:chExt cx="3584520" cy="1489320"/>
              </a:xfrm>
            </p:grpSpPr>
            <p:grpSp>
              <p:nvGrpSpPr>
                <p:cNvPr id="1032" name="组合 26640"/>
                <p:cNvGrpSpPr/>
                <p:nvPr/>
              </p:nvGrpSpPr>
              <p:grpSpPr>
                <a:xfrm>
                  <a:off x="2803680" y="3485880"/>
                  <a:ext cx="3457440" cy="815400"/>
                  <a:chOff x="2803680" y="3485880"/>
                  <a:chExt cx="3457440" cy="815400"/>
                </a:xfrm>
              </p:grpSpPr>
              <p:sp>
                <p:nvSpPr>
                  <p:cNvPr id="1033" name="文本框 26641"/>
                  <p:cNvSpPr/>
                  <p:nvPr/>
                </p:nvSpPr>
                <p:spPr>
                  <a:xfrm>
                    <a:off x="2803680" y="3706560"/>
                    <a:ext cx="34574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     </a:t>
                    </a: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×</a:t>
                    </a: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42</a:t>
                    </a: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×</a:t>
                    </a: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00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grpSp>
                <p:nvGrpSpPr>
                  <p:cNvPr id="1034" name="组合 26642"/>
                  <p:cNvGrpSpPr/>
                  <p:nvPr/>
                </p:nvGrpSpPr>
                <p:grpSpPr>
                  <a:xfrm>
                    <a:off x="3067200" y="3485880"/>
                    <a:ext cx="504720" cy="815400"/>
                    <a:chOff x="3067200" y="3485880"/>
                    <a:chExt cx="504720" cy="815400"/>
                  </a:xfrm>
                </p:grpSpPr>
                <p:sp>
                  <p:nvSpPr>
                    <p:cNvPr id="1035" name="文本框 26643"/>
                    <p:cNvSpPr/>
                    <p:nvPr/>
                  </p:nvSpPr>
                  <p:spPr>
                    <a:xfrm>
                      <a:off x="3067200" y="3841560"/>
                      <a:ext cx="504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50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036" name="文本框 26644"/>
                    <p:cNvSpPr/>
                    <p:nvPr/>
                  </p:nvSpPr>
                  <p:spPr>
                    <a:xfrm>
                      <a:off x="3127680" y="3485880"/>
                      <a:ext cx="360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1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037" name="直接连接符 26645"/>
                    <p:cNvSpPr/>
                    <p:nvPr/>
                  </p:nvSpPr>
                  <p:spPr>
                    <a:xfrm>
                      <a:off x="3105360" y="3905280"/>
                      <a:ext cx="360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38" name="直接连接符 26646"/>
                <p:cNvSpPr/>
                <p:nvPr/>
              </p:nvSpPr>
              <p:spPr>
                <a:xfrm>
                  <a:off x="3103560" y="4057560"/>
                  <a:ext cx="358920" cy="712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39" name="文本框 26647"/>
                <p:cNvSpPr/>
                <p:nvPr/>
              </p:nvSpPr>
              <p:spPr>
                <a:xfrm>
                  <a:off x="4408560" y="3471840"/>
                  <a:ext cx="36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40" name="文本框 26648"/>
                <p:cNvSpPr/>
                <p:nvPr/>
              </p:nvSpPr>
              <p:spPr>
                <a:xfrm>
                  <a:off x="3122640" y="4138560"/>
                  <a:ext cx="36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41" name="文本框 26649"/>
                <p:cNvSpPr/>
                <p:nvPr/>
              </p:nvSpPr>
              <p:spPr>
                <a:xfrm>
                  <a:off x="2676600" y="4562280"/>
                  <a:ext cx="1584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84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（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t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）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042" name="直接连接符 26650"/>
              <p:cNvSpPr/>
              <p:nvPr/>
            </p:nvSpPr>
            <p:spPr>
              <a:xfrm>
                <a:off x="4308480" y="3860640"/>
                <a:ext cx="503280" cy="7164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043" name="文本框 26651"/>
            <p:cNvSpPr/>
            <p:nvPr/>
          </p:nvSpPr>
          <p:spPr>
            <a:xfrm>
              <a:off x="2714760" y="3693960"/>
              <a:ext cx="87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44" name="矩形 26653"/>
          <p:cNvSpPr/>
          <p:nvPr/>
        </p:nvSpPr>
        <p:spPr>
          <a:xfrm>
            <a:off x="7038720" y="350028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5" name="矩形 26654"/>
          <p:cNvSpPr/>
          <p:nvPr/>
        </p:nvSpPr>
        <p:spPr>
          <a:xfrm>
            <a:off x="7254720" y="371628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34:12Z</dcterms:modified>
  <cp:revision>30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